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83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7.png" ContentType="image/png"/>
  <Override PartName="/ppt/media/image34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.jpeg" ContentType="image/jpeg"/>
  <Override PartName="/ppt/media/image26.png" ContentType="image/png"/>
  <Override PartName="/ppt/media/image12.png" ContentType="image/png"/>
  <Override PartName="/ppt/media/image23.jpeg" ContentType="image/jpeg"/>
  <Override PartName="/ppt/media/image82.jpeg" ContentType="image/jpeg"/>
  <Override PartName="/ppt/media/image27.png" ContentType="image/png"/>
  <Override PartName="/ppt/media/image33.jpeg" ContentType="image/jpeg"/>
  <Override PartName="/ppt/media/image49.png" ContentType="image/png"/>
  <Override PartName="/ppt/media/image65.jpeg" ContentType="image/jpeg"/>
  <Override PartName="/ppt/media/image29.png" ContentType="image/png"/>
  <Override PartName="/ppt/media/image62.png" ContentType="image/png"/>
  <Override PartName="/ppt/media/image78.jpeg" ContentType="image/jpeg"/>
  <Override PartName="/ppt/media/image61.jpeg" ContentType="image/jpeg"/>
  <Override PartName="/ppt/media/image63.png" ContentType="image/png"/>
  <Override PartName="/ppt/media/image85.jpeg" ContentType="image/jpeg"/>
  <Override PartName="/ppt/media/image87.png" ContentType="image/png"/>
  <Override PartName="/ppt/media/image70.jpeg" ContentType="image/jpeg"/>
  <Override PartName="/ppt/media/image35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69.jpeg" ContentType="image/jpeg"/>
  <Override PartName="/ppt/media/image74.jpeg" ContentType="image/jpeg"/>
  <Override PartName="/ppt/media/image80.jpeg" ContentType="image/jpeg"/>
  <Override PartName="/ppt/media/image64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22.jpeg" ContentType="image/jpeg"/>
  <Override PartName="/ppt/media/image81.jpeg" ContentType="image/jpeg"/>
  <Override PartName="/ppt/media/image75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48.png" ContentType="image/png"/>
  <Override PartName="/ppt/media/image68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86.png" ContentType="image/png"/>
  <Override PartName="/ppt/media/image67.jpeg" ContentType="image/jpeg"/>
  <Override PartName="/ppt/media/image21.png" ContentType="image/png"/>
  <Override PartName="/ppt/media/image84.png" ContentType="image/png"/>
  <Override PartName="/ppt/media/image79.jpeg" ContentType="image/jpeg"/>
  <Override PartName="/ppt/media/image19.png" ContentType="image/png"/>
  <Override PartName="/ppt/media/image32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15.png" ContentType="image/png"/>
  <Override PartName="/ppt/media/image25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6.jpeg" ContentType="image/jpeg"/>
  <Override PartName="/ppt/media/image20.png" ContentType="image/png"/>
  <Override PartName="/ppt/media/image57.png" ContentType="image/png"/>
  <Override PartName="/ppt/media/image36.jpeg" ContentType="image/jpeg"/>
  <Override PartName="/ppt/media/image10.png" ContentType="image/png"/>
  <Override PartName="/ppt/media/image7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4F7-3485-4130-942B-56CEC889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548-1AF7-494E-B8C7-8FD90D3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BA5-E64B-4A6C-8E74-482CF9AA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0AE-3FF6-44D3-AAD7-A03B3ED9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786-C7F1-4AC4-B8E9-FA3A838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5C5-F0B9-4608-AD32-D799EBC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4F7-D906-49CD-A363-385A3A73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D91-0837-4C4F-B5E5-516D053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54A-98B0-417F-8EBA-AF6CEEC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9B5-3425-4EC3-8C08-426F8E1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9FA-8FE8-4045-B838-C1853826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AE2-BA4F-4208-A8E1-8A6C5FF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80A-34A7-4D40-A4EA-25589289FF41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421320"/>
            <a:ext cx="1447920" cy="43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315200" y="6351480"/>
            <a:ext cx="18288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71.jpeg"/><Relationship Id="rId9" Type="http://schemas.openxmlformats.org/officeDocument/2006/relationships/image" Target="../media/image72.jpeg"/><Relationship Id="rId10" Type="http://schemas.openxmlformats.org/officeDocument/2006/relationships/image" Target="../media/image73.jpeg"/><Relationship Id="rId11" Type="http://schemas.openxmlformats.org/officeDocument/2006/relationships/image" Target="../media/image74.jpeg"/><Relationship Id="rId12" Type="http://schemas.openxmlformats.org/officeDocument/2006/relationships/image" Target="../media/image75.jpeg"/><Relationship Id="rId1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9640" y="1066320"/>
            <a:ext cx="7745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Medium"/>
              </a:rPr>
              <a:t>VACE Phase II </a:t>
            </a:r>
            <a:r>
              <a:rPr b="1" lang="en-US" sz="4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Franklin Gothic Medium"/>
              </a:rPr>
              <a:t>    Semi-annual Workshop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obabilistic Graphical Model Based Tools For Video Analysis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.I. Thomas S. Huang</a:t>
            </a: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University of Illinois at Urbana-Champaign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Graphical model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9" name=""/>
          <p:cNvSpPr/>
          <p:nvPr/>
        </p:nvSpPr>
        <p:spPr>
          <a:xfrm>
            <a:off x="5261040" y="1228680"/>
            <a:ext cx="530280" cy="5238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9240" y="1228680"/>
            <a:ext cx="530280" cy="52380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2747880"/>
            <a:ext cx="1209600" cy="1790280"/>
            <a:chOff x="685800" y="2747880"/>
            <a:chExt cx="1209600" cy="1790280"/>
          </a:xfrm>
        </p:grpSpPr>
        <p:sp>
          <p:nvSpPr>
            <p:cNvPr id="82" name=""/>
            <p:cNvSpPr/>
            <p:nvPr/>
          </p:nvSpPr>
          <p:spPr>
            <a:xfrm>
              <a:off x="685800" y="3484080"/>
              <a:ext cx="432000" cy="42156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73520" y="4116600"/>
              <a:ext cx="433440" cy="421560"/>
            </a:xfrm>
            <a:prstGeom prst="ellipse">
              <a:avLst/>
            </a:prstGeom>
            <a:solidFill>
              <a:srgbClr val="cc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63400" y="3488040"/>
              <a:ext cx="432000" cy="42012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01520" y="3877560"/>
              <a:ext cx="161280" cy="281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418040" y="3877560"/>
              <a:ext cx="163080" cy="280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63400" y="2747880"/>
              <a:ext cx="432000" cy="42156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2640" y="3162960"/>
              <a:ext cx="0" cy="3286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44680" y="1295280"/>
            <a:ext cx="79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b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    hidd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1814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yesian networks (D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181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 graphs (bipartite 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19520" y="2438280"/>
            <a:ext cx="3422520" cy="2528640"/>
            <a:chOff x="2819520" y="2438280"/>
            <a:chExt cx="3422520" cy="2528640"/>
          </a:xfrm>
        </p:grpSpPr>
        <p:sp>
          <p:nvSpPr>
            <p:cNvPr id="93" name=""/>
            <p:cNvSpPr/>
            <p:nvPr/>
          </p:nvSpPr>
          <p:spPr>
            <a:xfrm>
              <a:off x="3870360" y="2977920"/>
              <a:ext cx="436680" cy="42876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5120" y="2949480"/>
              <a:ext cx="436680" cy="42840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9880" y="2438280"/>
              <a:ext cx="436320" cy="43020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63920" y="3484440"/>
              <a:ext cx="436680" cy="43020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93" idx="6"/>
              <a:endCxn id="98" idx="1"/>
            </p:cNvCxnSpPr>
            <p:nvPr/>
          </p:nvCxnSpPr>
          <p:spPr>
            <a:xfrm>
              <a:off x="4317480" y="3191760"/>
              <a:ext cx="140400" cy="1980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95" idx="4"/>
              <a:endCxn id="98" idx="0"/>
            </p:cNvCxnSpPr>
            <p:nvPr/>
          </p:nvCxnSpPr>
          <p:spPr>
            <a:xfrm>
              <a:off x="4568400" y="2879640"/>
              <a:ext cx="1080" cy="21312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4" idx="2"/>
              <a:endCxn id="98" idx="3"/>
            </p:cNvCxnSpPr>
            <p:nvPr/>
          </p:nvCxnSpPr>
          <p:spPr>
            <a:xfrm flipH="1">
              <a:off x="4677840" y="3163680"/>
              <a:ext cx="186480" cy="4824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6" idx="0"/>
              <a:endCxn id="98" idx="2"/>
            </p:cNvCxnSpPr>
            <p:nvPr/>
          </p:nvCxnSpPr>
          <p:spPr>
            <a:xfrm flipH="1" flipV="1">
              <a:off x="4568400" y="3329640"/>
              <a:ext cx="15120" cy="14364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sp>
          <p:nvSpPr>
            <p:cNvPr id="102" name=""/>
            <p:cNvSpPr/>
            <p:nvPr/>
          </p:nvSpPr>
          <p:spPr>
            <a:xfrm>
              <a:off x="4408560" y="4538520"/>
              <a:ext cx="436320" cy="4284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104" idx="0"/>
              <a:endCxn id="96" idx="4"/>
            </p:cNvCxnSpPr>
            <p:nvPr/>
          </p:nvCxnSpPr>
          <p:spPr>
            <a:xfrm flipH="1" flipV="1">
              <a:off x="4582440" y="3925080"/>
              <a:ext cx="35640" cy="17532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cxnSp>
          <p:nvCxnSpPr>
            <p:cNvPr id="105" name=""/>
            <p:cNvCxnSpPr>
              <a:stCxn id="106" idx="1"/>
              <a:endCxn id="94" idx="6"/>
            </p:cNvCxnSpPr>
            <p:nvPr/>
          </p:nvCxnSpPr>
          <p:spPr>
            <a:xfrm flipH="1" flipV="1">
              <a:off x="5322240" y="3162960"/>
              <a:ext cx="135720" cy="4500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sp>
          <p:nvSpPr>
            <p:cNvPr id="107" name=""/>
            <p:cNvSpPr/>
            <p:nvPr/>
          </p:nvSpPr>
          <p:spPr>
            <a:xfrm>
              <a:off x="5805360" y="2993760"/>
              <a:ext cx="436680" cy="4287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3170160"/>
              <a:ext cx="436320" cy="4284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08" idx="6"/>
              <a:endCxn id="110" idx="1"/>
            </p:cNvCxnSpPr>
            <p:nvPr/>
          </p:nvCxnSpPr>
          <p:spPr>
            <a:xfrm flipV="1">
              <a:off x="3269880" y="3217320"/>
              <a:ext cx="237240" cy="16704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4457880" y="3092040"/>
              <a:ext cx="220320" cy="238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"/>
            <p:cNvCxnSpPr>
              <a:stCxn id="104" idx="2"/>
              <a:endCxn id="102" idx="0"/>
            </p:cNvCxnSpPr>
            <p:nvPr/>
          </p:nvCxnSpPr>
          <p:spPr>
            <a:xfrm>
              <a:off x="4618080" y="4338360"/>
              <a:ext cx="10080" cy="18648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>
              <a:stCxn id="106" idx="3"/>
              <a:endCxn id="107" idx="2"/>
            </p:cNvCxnSpPr>
            <p:nvPr/>
          </p:nvCxnSpPr>
          <p:spPr>
            <a:xfrm>
              <a:off x="5678280" y="3207600"/>
              <a:ext cx="113400" cy="108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>
              <a:stCxn id="93" idx="2"/>
              <a:endCxn id="110" idx="3"/>
            </p:cNvCxnSpPr>
            <p:nvPr/>
          </p:nvCxnSpPr>
          <p:spPr>
            <a:xfrm flipH="1">
              <a:off x="3727080" y="3191760"/>
              <a:ext cx="132480" cy="2628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4506840" y="4100400"/>
              <a:ext cx="22068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57960" y="3089160"/>
              <a:ext cx="220680" cy="23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6760" y="3098520"/>
              <a:ext cx="220680" cy="238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934320" y="518148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ov random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741400">
            <a:off x="6853680" y="2975760"/>
            <a:ext cx="436680" cy="42876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741400">
            <a:off x="7644240" y="3910680"/>
            <a:ext cx="436680" cy="42876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741400">
            <a:off x="7643520" y="2974680"/>
            <a:ext cx="436680" cy="4302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741400">
            <a:off x="6854400" y="3909600"/>
            <a:ext cx="436680" cy="4302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7840" y="2514600"/>
            <a:ext cx="436680" cy="42876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7" idx="0"/>
            <a:endCxn id="119" idx="3"/>
          </p:cNvCxnSpPr>
          <p:nvPr/>
        </p:nvCxnSpPr>
        <p:spPr>
          <a:xfrm flipV="1">
            <a:off x="8024400" y="2893680"/>
            <a:ext cx="137160" cy="138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7308720" y="2514600"/>
            <a:ext cx="436680" cy="42876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5" idx="0"/>
            <a:endCxn id="121" idx="3"/>
          </p:cNvCxnSpPr>
          <p:nvPr/>
        </p:nvCxnSpPr>
        <p:spPr>
          <a:xfrm flipV="1">
            <a:off x="7234200" y="2893680"/>
            <a:ext cx="138960" cy="1389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7308720" y="3284640"/>
            <a:ext cx="436680" cy="42840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0"/>
            <a:endCxn id="123" idx="3"/>
          </p:cNvCxnSpPr>
          <p:nvPr/>
        </p:nvCxnSpPr>
        <p:spPr>
          <a:xfrm flipV="1">
            <a:off x="7235640" y="3663720"/>
            <a:ext cx="137160" cy="3038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8097840" y="3436920"/>
            <a:ext cx="436680" cy="42876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25" idx="3"/>
          </p:cNvCxnSpPr>
          <p:nvPr/>
        </p:nvCxnSpPr>
        <p:spPr>
          <a:xfrm flipV="1">
            <a:off x="8024400" y="3815640"/>
            <a:ext cx="137160" cy="1515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27" name=""/>
          <p:cNvCxnSpPr>
            <a:stCxn id="118" idx="1"/>
            <a:endCxn id="115" idx="5"/>
          </p:cNvCxnSpPr>
          <p:nvPr/>
        </p:nvCxnSpPr>
        <p:spPr>
          <a:xfrm flipH="1" flipV="1">
            <a:off x="7063560" y="3412800"/>
            <a:ext cx="19800" cy="4881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28" name=""/>
          <p:cNvCxnSpPr>
            <a:stCxn id="115" idx="7"/>
            <a:endCxn id="117" idx="3"/>
          </p:cNvCxnSpPr>
          <p:nvPr/>
        </p:nvCxnSpPr>
        <p:spPr>
          <a:xfrm>
            <a:off x="7295760" y="3186000"/>
            <a:ext cx="343800" cy="86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18" idx="7"/>
            <a:endCxn id="116" idx="3"/>
          </p:cNvCxnSpPr>
          <p:nvPr/>
        </p:nvCxnSpPr>
        <p:spPr>
          <a:xfrm>
            <a:off x="7299360" y="4120920"/>
            <a:ext cx="340200" cy="68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16" idx="1"/>
            <a:endCxn id="117" idx="5"/>
          </p:cNvCxnSpPr>
          <p:nvPr/>
        </p:nvCxnSpPr>
        <p:spPr>
          <a:xfrm flipH="1" flipV="1">
            <a:off x="7854120" y="3414240"/>
            <a:ext cx="18360" cy="4867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Examples of factorization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920" y="1393920"/>
                <a:ext cx="8762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arent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3" name=""/>
          <p:cNvGrpSpPr/>
          <p:nvPr/>
        </p:nvGrpSpPr>
        <p:grpSpPr>
          <a:xfrm>
            <a:off x="762120" y="2514600"/>
            <a:ext cx="3733200" cy="3962520"/>
            <a:chOff x="762120" y="2514600"/>
            <a:chExt cx="3733200" cy="3962520"/>
          </a:xfrm>
        </p:grpSpPr>
        <p:sp>
          <p:nvSpPr>
            <p:cNvPr id="134" name=""/>
            <p:cNvSpPr/>
            <p:nvPr/>
          </p:nvSpPr>
          <p:spPr>
            <a:xfrm>
              <a:off x="762120" y="3810240"/>
              <a:ext cx="53316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25146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6160" y="487692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3810240"/>
              <a:ext cx="53280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0400" y="2514600"/>
              <a:ext cx="53280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6160" y="59436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62160" y="59436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160" y="3810240"/>
              <a:ext cx="53316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35" idx="4"/>
              <a:endCxn id="134" idx="0"/>
            </p:cNvCxnSpPr>
            <p:nvPr/>
          </p:nvCxnSpPr>
          <p:spPr>
            <a:xfrm>
              <a:off x="1028160" y="3047760"/>
              <a:ext cx="1080" cy="7628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6" idx="1"/>
            </p:cNvCxnSpPr>
            <p:nvPr/>
          </p:nvCxnSpPr>
          <p:spPr>
            <a:xfrm>
              <a:off x="1217160" y="4265640"/>
              <a:ext cx="536760" cy="689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7" idx="3"/>
              <a:endCxn id="136" idx="7"/>
            </p:cNvCxnSpPr>
            <p:nvPr/>
          </p:nvCxnSpPr>
          <p:spPr>
            <a:xfrm flipH="1">
              <a:off x="2131560" y="4265640"/>
              <a:ext cx="460800" cy="689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36" idx="4"/>
              <a:endCxn id="139" idx="0"/>
            </p:cNvCxnSpPr>
            <p:nvPr/>
          </p:nvCxnSpPr>
          <p:spPr>
            <a:xfrm>
              <a:off x="1942560" y="5410080"/>
              <a:ext cx="1080" cy="533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36" idx="5"/>
              <a:endCxn id="140" idx="2"/>
            </p:cNvCxnSpPr>
            <p:nvPr/>
          </p:nvCxnSpPr>
          <p:spPr>
            <a:xfrm>
              <a:off x="2131560" y="5332680"/>
              <a:ext cx="1830600" cy="8784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38" idx="3"/>
              <a:endCxn id="137" idx="0"/>
            </p:cNvCxnSpPr>
            <p:nvPr/>
          </p:nvCxnSpPr>
          <p:spPr>
            <a:xfrm flipH="1">
              <a:off x="2780640" y="2970000"/>
              <a:ext cx="497160" cy="8406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38" idx="5"/>
              <a:endCxn id="141" idx="0"/>
            </p:cNvCxnSpPr>
            <p:nvPr/>
          </p:nvCxnSpPr>
          <p:spPr>
            <a:xfrm>
              <a:off x="3655440" y="2970000"/>
              <a:ext cx="573480" cy="8406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838080" y="259092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390060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2480" y="601992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601992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388620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90560" y="388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360" y="2590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2480" y="49672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41" idx="4"/>
              <a:endCxn id="140" idx="0"/>
            </p:cNvCxnSpPr>
            <p:nvPr/>
          </p:nvCxnSpPr>
          <p:spPr>
            <a:xfrm>
              <a:off x="4228560" y="4343040"/>
              <a:ext cx="1080" cy="1600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58" name=""/>
          <p:cNvSpPr/>
          <p:nvPr/>
        </p:nvSpPr>
        <p:spPr>
          <a:xfrm>
            <a:off x="4724280" y="3581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yesian network for diagnosed shortness of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Generative model paradigm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"/>
          <p:cNvSpPr/>
          <p:nvPr/>
        </p:nvSpPr>
        <p:spPr>
          <a:xfrm>
            <a:off x="3343320" y="3452760"/>
            <a:ext cx="1423800" cy="1001880"/>
          </a:xfrm>
          <a:prstGeom prst="cube">
            <a:avLst>
              <a:gd name="adj" fmla="val 843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171960" y="5052960"/>
            <a:ext cx="3634560" cy="802800"/>
            <a:chOff x="3171960" y="5052960"/>
            <a:chExt cx="3634560" cy="8028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4980600" y="5052960"/>
              <a:ext cx="91332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5893920" y="5052960"/>
              <a:ext cx="91260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3171960" y="5052960"/>
              <a:ext cx="91332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4085280" y="5052960"/>
              <a:ext cx="910440" cy="80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662040" y="1366920"/>
            <a:ext cx="3352680" cy="1627200"/>
          </a:xfrm>
          <a:prstGeom prst="cube">
            <a:avLst>
              <a:gd name="adj" fmla="val 7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model variability due to: noise, translations, rotations, change in scale, lighting, occlusion, deformations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76960" y="3438360"/>
            <a:ext cx="1390680" cy="987480"/>
          </a:xfrm>
          <a:prstGeom prst="cube">
            <a:avLst>
              <a:gd name="adj" fmla="val 8439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 video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2560" y="1376280"/>
            <a:ext cx="3738600" cy="1604880"/>
          </a:xfrm>
          <a:prstGeom prst="cube">
            <a:avLst>
              <a:gd name="adj" fmla="val 5138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876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ccount for deformations (de-noising, stabilization, registration, layers)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struct video similarity measure,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ultimately leads to event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09840" y="3986280"/>
            <a:ext cx="914400" cy="1295280"/>
          </a:xfrm>
          <a:custGeom>
            <a:avLst/>
            <a:gdLst/>
            <a:ahLst/>
            <a:rect l="l" t="t" r="r" b="b"/>
            <a:pathLst>
              <a:path w="306" h="654">
                <a:moveTo>
                  <a:pt x="306" y="0"/>
                </a:moveTo>
                <a:lnTo>
                  <a:pt x="0" y="0"/>
                </a:lnTo>
                <a:lnTo>
                  <a:pt x="0" y="654"/>
                </a:lnTo>
                <a:lnTo>
                  <a:pt x="246" y="654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28960" y="2986200"/>
            <a:ext cx="1143000" cy="2676240"/>
          </a:xfrm>
          <a:custGeom>
            <a:avLst/>
            <a:gdLst/>
            <a:ahLst/>
            <a:rect l="l" t="t" r="r" b="b"/>
            <a:pathLst>
              <a:path w="720" h="1686">
                <a:moveTo>
                  <a:pt x="0" y="0"/>
                </a:moveTo>
                <a:lnTo>
                  <a:pt x="0" y="1686"/>
                </a:lnTo>
                <a:lnTo>
                  <a:pt x="720" y="1686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00480" y="51768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29560" y="3909960"/>
            <a:ext cx="685800" cy="1381320"/>
          </a:xfrm>
          <a:custGeom>
            <a:avLst/>
            <a:gdLst/>
            <a:ahLst/>
            <a:rect l="l" t="t" r="r" b="b"/>
            <a:pathLst>
              <a:path w="255" h="378">
                <a:moveTo>
                  <a:pt x="6" y="378"/>
                </a:moveTo>
                <a:lnTo>
                  <a:pt x="255" y="378"/>
                </a:lnTo>
                <a:lnTo>
                  <a:pt x="24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29560" y="3000240"/>
            <a:ext cx="1299960" cy="2567160"/>
          </a:xfrm>
          <a:custGeom>
            <a:avLst/>
            <a:gdLst/>
            <a:ahLst/>
            <a:rect l="l" t="t" r="r" b="b"/>
            <a:pathLst>
              <a:path w="819" h="1617">
                <a:moveTo>
                  <a:pt x="0" y="1617"/>
                </a:moveTo>
                <a:lnTo>
                  <a:pt x="816" y="1617"/>
                </a:lnTo>
                <a:lnTo>
                  <a:pt x="819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133000">
            <a:off x="1034640" y="4619160"/>
            <a:ext cx="1940040" cy="9064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v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251600">
            <a:off x="6951240" y="4541760"/>
            <a:ext cx="1976400" cy="92700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Video = scenes + transformation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62080" y="1828800"/>
          <a:ext cx="6603840" cy="3825720"/>
        </p:xfrm>
        <a:graphic>
          <a:graphicData uri="http://schemas.openxmlformats.org/drawingml/2006/table">
            <a:tbl>
              <a:tblPr/>
              <a:tblGrid>
                <a:gridCol w="2057400"/>
                <a:gridCol w="1133280"/>
                <a:gridCol w="1143000"/>
                <a:gridCol w="1124280"/>
                <a:gridCol w="114588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lation, sh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e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hting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30640" y="1844640"/>
            <a:ext cx="1116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67160" y="1844640"/>
            <a:ext cx="1128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77920" y="2951280"/>
            <a:ext cx="2031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5840" y="2301840"/>
            <a:ext cx="20574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, sh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3611520"/>
            <a:ext cx="16952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5560" y="4270320"/>
            <a:ext cx="18255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ing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22720" y="2286000"/>
            <a:ext cx="4527360" cy="3395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744280" y="5846760"/>
            <a:ext cx="38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data,label,hid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66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6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17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rucial characteristic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eatur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ssian model for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ble to general class of vid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Ongoing work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invarian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clus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-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Image generative proces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6934320" cy="2479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04880" y="525780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Choos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5257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dd clutter (no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5257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Transform and 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810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atent imag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Gaussian Appearance Model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429000"/>
            <a:ext cx="36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-30208" t="-108197" r="0" b="0"/>
          <a:stretch/>
        </p:blipFill>
        <p:spPr>
          <a:xfrm>
            <a:off x="914400" y="1143000"/>
            <a:ext cx="167004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2575080"/>
            <a:ext cx="1063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i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rcRect l="-30208" t="-108197" r="0" b="0"/>
          <a:stretch/>
        </p:blipFill>
        <p:spPr>
          <a:xfrm>
            <a:off x="3733920" y="1219320"/>
            <a:ext cx="1671480" cy="2133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33880" y="2583000"/>
            <a:ext cx="1063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Mixture of Gaussian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"/>
          <p:cNvSpPr/>
          <p:nvPr/>
        </p:nvSpPr>
        <p:spPr>
          <a:xfrm>
            <a:off x="7598160" y="1920960"/>
            <a:ext cx="691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51440" y="1911240"/>
            <a:ext cx="1725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19040" y="3327480"/>
            <a:ext cx="53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13680" y="3327480"/>
            <a:ext cx="1422360" cy="1422360"/>
          </a:xfrm>
          <a:prstGeom prst="ellips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7560" y="3968640"/>
            <a:ext cx="369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4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i="1" lang="en-US" sz="4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16880" y="1903320"/>
            <a:ext cx="623880" cy="635040"/>
          </a:xfrm>
          <a:prstGeom prst="ellips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924320" y="2600280"/>
            <a:ext cx="3240" cy="676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421400" y="3813120"/>
            <a:ext cx="1022400" cy="66672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29320" y="1709640"/>
            <a:ext cx="4528440" cy="1878480"/>
            <a:chOff x="229320" y="1709640"/>
            <a:chExt cx="4528440" cy="1878480"/>
          </a:xfrm>
        </p:grpSpPr>
        <p:grpSp>
          <p:nvGrpSpPr>
            <p:cNvPr id="213" name=""/>
            <p:cNvGrpSpPr/>
            <p:nvPr/>
          </p:nvGrpSpPr>
          <p:grpSpPr>
            <a:xfrm>
              <a:off x="1400040" y="1709640"/>
              <a:ext cx="3357720" cy="1000800"/>
              <a:chOff x="1400040" y="1709640"/>
              <a:chExt cx="3357720" cy="100080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1400040" y="1709640"/>
                <a:ext cx="1600200" cy="690840"/>
                <a:chOff x="1400040" y="1709640"/>
                <a:chExt cx="1600200" cy="6908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400040" y="1822320"/>
                  <a:ext cx="66672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6" name="" descr=""/>
                <p:cNvPicPr/>
                <p:nvPr/>
              </p:nvPicPr>
              <p:blipFill>
                <a:blip r:embed="rId2"/>
                <a:srcRect l="-30208" t="-108197" r="0" b="0"/>
                <a:stretch/>
              </p:blipFill>
              <p:spPr>
                <a:xfrm>
                  <a:off x="1952640" y="17096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7" name=""/>
              <p:cNvGrpSpPr/>
              <p:nvPr/>
            </p:nvGrpSpPr>
            <p:grpSpPr>
              <a:xfrm>
                <a:off x="3086280" y="1709640"/>
                <a:ext cx="1671480" cy="1000800"/>
                <a:chOff x="3086280" y="1709640"/>
                <a:chExt cx="1671480" cy="1000800"/>
              </a:xfrm>
            </p:grpSpPr>
            <p:pic>
              <p:nvPicPr>
                <p:cNvPr id="218" name="" descr=""/>
                <p:cNvPicPr/>
                <p:nvPr/>
              </p:nvPicPr>
              <p:blipFill>
                <a:blip r:embed="rId3"/>
                <a:srcRect l="-30208" t="-108197" r="0" b="0"/>
                <a:stretch/>
              </p:blipFill>
              <p:spPr>
                <a:xfrm>
                  <a:off x="3710160" y="17096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"/>
                <p:cNvSpPr/>
                <p:nvPr/>
              </p:nvSpPr>
              <p:spPr>
                <a:xfrm>
                  <a:off x="3086280" y="1827360"/>
                  <a:ext cx="66672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1359000" y="2571840"/>
              <a:ext cx="3392280" cy="1016280"/>
              <a:chOff x="1359000" y="2571840"/>
              <a:chExt cx="3392280" cy="10162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1359000" y="2571840"/>
                <a:ext cx="1631880" cy="1013040"/>
                <a:chOff x="1359000" y="2571840"/>
                <a:chExt cx="1631880" cy="1013040"/>
              </a:xfrm>
            </p:grpSpPr>
            <p:pic>
              <p:nvPicPr>
                <p:cNvPr id="222" name="" descr=""/>
                <p:cNvPicPr/>
                <p:nvPr/>
              </p:nvPicPr>
              <p:blipFill>
                <a:blip r:embed="rId4"/>
                <a:srcRect l="-30208" t="-108197" r="0" b="0"/>
                <a:stretch/>
              </p:blipFill>
              <p:spPr>
                <a:xfrm>
                  <a:off x="1943280" y="25718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1359000" y="2701800"/>
                  <a:ext cx="66672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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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00320" y="2571840"/>
                <a:ext cx="1650960" cy="1016280"/>
                <a:chOff x="3100320" y="2571840"/>
                <a:chExt cx="1650960" cy="1016280"/>
              </a:xfrm>
            </p:grpSpPr>
            <p:pic>
              <p:nvPicPr>
                <p:cNvPr id="225" name="" descr=""/>
                <p:cNvPicPr/>
                <p:nvPr/>
              </p:nvPicPr>
              <p:blipFill>
                <a:blip r:embed="rId5"/>
                <a:srcRect l="-30208" t="-108197" r="0" b="0"/>
                <a:stretch/>
              </p:blipFill>
              <p:spPr>
                <a:xfrm>
                  <a:off x="3703680" y="25718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6" name=""/>
                <p:cNvSpPr/>
                <p:nvPr/>
              </p:nvSpPr>
              <p:spPr>
                <a:xfrm>
                  <a:off x="3100320" y="2705040"/>
                  <a:ext cx="66672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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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13560" y="1839960"/>
              <a:ext cx="10202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 0.6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320" y="2728800"/>
              <a:ext cx="11102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 0.4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09320" y="1920960"/>
            <a:ext cx="691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51440" y="1911240"/>
            <a:ext cx="1725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19040" y="3327480"/>
            <a:ext cx="53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13680" y="3327480"/>
            <a:ext cx="1422360" cy="1422360"/>
          </a:xfrm>
          <a:prstGeom prst="ellips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7560" y="3968640"/>
            <a:ext cx="369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4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i="1" lang="en-US" sz="4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16880" y="1903320"/>
            <a:ext cx="623880" cy="635040"/>
          </a:xfrm>
          <a:prstGeom prst="ellips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24320" y="2600280"/>
            <a:ext cx="3240" cy="676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410600" y="3814920"/>
            <a:ext cx="1022040" cy="6667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229320" y="1709640"/>
            <a:ext cx="4528440" cy="1878480"/>
            <a:chOff x="229320" y="1709640"/>
            <a:chExt cx="4528440" cy="1878480"/>
          </a:xfrm>
        </p:grpSpPr>
        <p:grpSp>
          <p:nvGrpSpPr>
            <p:cNvPr id="238" name=""/>
            <p:cNvGrpSpPr/>
            <p:nvPr/>
          </p:nvGrpSpPr>
          <p:grpSpPr>
            <a:xfrm>
              <a:off x="1400040" y="1709640"/>
              <a:ext cx="3357720" cy="1000800"/>
              <a:chOff x="1400040" y="1709640"/>
              <a:chExt cx="3357720" cy="10008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00040" y="1709640"/>
                <a:ext cx="1600200" cy="690840"/>
                <a:chOff x="1400040" y="1709640"/>
                <a:chExt cx="1600200" cy="690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400040" y="1822320"/>
                  <a:ext cx="66672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1" name="" descr=""/>
                <p:cNvPicPr/>
                <p:nvPr/>
              </p:nvPicPr>
              <p:blipFill>
                <a:blip r:embed="rId2"/>
                <a:srcRect l="-30208" t="-108197" r="0" b="0"/>
                <a:stretch/>
              </p:blipFill>
              <p:spPr>
                <a:xfrm>
                  <a:off x="1952640" y="17096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2" name=""/>
              <p:cNvGrpSpPr/>
              <p:nvPr/>
            </p:nvGrpSpPr>
            <p:grpSpPr>
              <a:xfrm>
                <a:off x="3086280" y="1709640"/>
                <a:ext cx="1671480" cy="1000800"/>
                <a:chOff x="3086280" y="1709640"/>
                <a:chExt cx="1671480" cy="1000800"/>
              </a:xfrm>
            </p:grpSpPr>
            <p:pic>
              <p:nvPicPr>
                <p:cNvPr id="243" name="" descr=""/>
                <p:cNvPicPr/>
                <p:nvPr/>
              </p:nvPicPr>
              <p:blipFill>
                <a:blip r:embed="rId3"/>
                <a:srcRect l="-30208" t="-108197" r="0" b="0"/>
                <a:stretch/>
              </p:blipFill>
              <p:spPr>
                <a:xfrm>
                  <a:off x="3710160" y="17096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>
                  <a:off x="3086280" y="1827360"/>
                  <a:ext cx="66672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1359000" y="2571840"/>
              <a:ext cx="3392280" cy="1016280"/>
              <a:chOff x="1359000" y="2571840"/>
              <a:chExt cx="3392280" cy="10162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359000" y="2571840"/>
                <a:ext cx="1631880" cy="1013040"/>
                <a:chOff x="1359000" y="2571840"/>
                <a:chExt cx="1631880" cy="1013040"/>
              </a:xfrm>
            </p:grpSpPr>
            <p:pic>
              <p:nvPicPr>
                <p:cNvPr id="247" name="" descr=""/>
                <p:cNvPicPr/>
                <p:nvPr/>
              </p:nvPicPr>
              <p:blipFill>
                <a:blip r:embed="rId4"/>
                <a:srcRect l="-30208" t="-108197" r="0" b="0"/>
                <a:stretch/>
              </p:blipFill>
              <p:spPr>
                <a:xfrm>
                  <a:off x="1943280" y="25718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"/>
                <p:cNvSpPr/>
                <p:nvPr/>
              </p:nvSpPr>
              <p:spPr>
                <a:xfrm>
                  <a:off x="1359000" y="2701800"/>
                  <a:ext cx="66672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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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100320" y="2571840"/>
                <a:ext cx="1650960" cy="1016280"/>
                <a:chOff x="3100320" y="2571840"/>
                <a:chExt cx="1650960" cy="1016280"/>
              </a:xfrm>
            </p:grpSpPr>
            <p:pic>
              <p:nvPicPr>
                <p:cNvPr id="250" name="" descr=""/>
                <p:cNvPicPr/>
                <p:nvPr/>
              </p:nvPicPr>
              <p:blipFill>
                <a:blip r:embed="rId5"/>
                <a:srcRect l="-30208" t="-108197" r="0" b="0"/>
                <a:stretch/>
              </p:blipFill>
              <p:spPr>
                <a:xfrm>
                  <a:off x="3703680" y="2571840"/>
                  <a:ext cx="1047600" cy="66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3100320" y="2705040"/>
                  <a:ext cx="66672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</a:t>
                  </a:r>
                  <a:r>
                    <a:rPr b="0" lang="en-US" sz="28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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313560" y="1839960"/>
              <a:ext cx="10202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 0.6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320" y="2728800"/>
              <a:ext cx="11102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 0.4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Mixture of Gaussian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Our lab</a:t>
            </a:r>
            <a:endParaRPr b="0" lang="en-US" sz="5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S. Hu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Lin, Zhen Wen, Ziyou Xiong, Jilin Tu, Terrence Chen, Hanning (Eric) Zhou, Atulya Velivelli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ex Ivanov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it Seth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ennis Lin, Charlie Dagli, Tony Xu Han, Ming Liu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Yue Zh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yam Raja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manja Petrov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Zhenqiu Zhang, Xun (Jason) Xu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hun Das Gup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Zhihong Ze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THMM graphical model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6" name=""/>
          <p:cNvSpPr/>
          <p:nvPr/>
        </p:nvSpPr>
        <p:spPr>
          <a:xfrm>
            <a:off x="3656160" y="2771640"/>
            <a:ext cx="711000" cy="71136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95880" y="3838680"/>
            <a:ext cx="711000" cy="711000"/>
          </a:xfrm>
          <a:prstGeom prst="ellipse">
            <a:avLst/>
          </a:pr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35600" y="2776680"/>
            <a:ext cx="711000" cy="711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82720" y="2635200"/>
            <a:ext cx="141768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35400" y="29433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30760" y="294156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00720" y="4006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71680" y="3434040"/>
            <a:ext cx="273960" cy="474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57480" y="3433680"/>
            <a:ext cx="273960" cy="47412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5600" y="1528920"/>
            <a:ext cx="711000" cy="711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35400" y="1695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95960" y="2230560"/>
            <a:ext cx="0" cy="5522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57920" y="159552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657600"/>
            <a:ext cx="316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z|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au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z;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21160" y="47260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 = 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 = T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x = T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44920" y="5981760"/>
            <a:ext cx="372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au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38240" y="2955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95440" y="3171960"/>
            <a:ext cx="20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0200" y="3067200"/>
            <a:ext cx="0" cy="20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13240" y="1434960"/>
            <a:ext cx="2324160" cy="2259000"/>
          </a:xfrm>
          <a:custGeom>
            <a:avLst/>
            <a:gdLst/>
            <a:ahLst/>
            <a:rect l="l" t="t" r="r" b="b"/>
            <a:pathLst>
              <a:path w="1464" h="1423">
                <a:moveTo>
                  <a:pt x="685" y="157"/>
                </a:moveTo>
                <a:cubicBezTo>
                  <a:pt x="540" y="232"/>
                  <a:pt x="409" y="332"/>
                  <a:pt x="301" y="440"/>
                </a:cubicBezTo>
                <a:cubicBezTo>
                  <a:pt x="193" y="548"/>
                  <a:pt x="72" y="666"/>
                  <a:pt x="36" y="806"/>
                </a:cubicBezTo>
                <a:cubicBezTo>
                  <a:pt x="0" y="946"/>
                  <a:pt x="17" y="1185"/>
                  <a:pt x="82" y="1281"/>
                </a:cubicBezTo>
                <a:cubicBezTo>
                  <a:pt x="147" y="1377"/>
                  <a:pt x="339" y="1423"/>
                  <a:pt x="429" y="1382"/>
                </a:cubicBezTo>
                <a:cubicBezTo>
                  <a:pt x="519" y="1341"/>
                  <a:pt x="523" y="1156"/>
                  <a:pt x="621" y="1034"/>
                </a:cubicBezTo>
                <a:cubicBezTo>
                  <a:pt x="719" y="912"/>
                  <a:pt x="889" y="743"/>
                  <a:pt x="1014" y="650"/>
                </a:cubicBezTo>
                <a:cubicBezTo>
                  <a:pt x="1139" y="557"/>
                  <a:pt x="1304" y="558"/>
                  <a:pt x="1371" y="477"/>
                </a:cubicBezTo>
                <a:cubicBezTo>
                  <a:pt x="1438" y="396"/>
                  <a:pt x="1464" y="245"/>
                  <a:pt x="1417" y="166"/>
                </a:cubicBezTo>
                <a:cubicBezTo>
                  <a:pt x="1370" y="87"/>
                  <a:pt x="1210" y="2"/>
                  <a:pt x="1088" y="1"/>
                </a:cubicBezTo>
                <a:cubicBezTo>
                  <a:pt x="966" y="0"/>
                  <a:pt x="769" y="124"/>
                  <a:pt x="685" y="157"/>
                </a:cubicBezTo>
                <a:close/>
              </a:path>
            </a:pathLst>
          </a:custGeom>
          <a:noFill/>
          <a:ln cap="rnd" w="2232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4653000"/>
            <a:ext cx="1417320" cy="108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008760" y="2570040"/>
            <a:ext cx="1417680" cy="1078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86000" y="1295280"/>
            <a:ext cx="1981080" cy="470160"/>
          </a:xfrm>
          <a:custGeom>
            <a:avLst/>
            <a:gdLst/>
            <a:ahLst/>
            <a:rect l="l" t="t" r="r" b="b"/>
            <a:pathLst>
              <a:path w="1248" h="296">
                <a:moveTo>
                  <a:pt x="0" y="296"/>
                </a:moveTo>
                <a:cubicBezTo>
                  <a:pt x="232" y="156"/>
                  <a:pt x="464" y="16"/>
                  <a:pt x="672" y="8"/>
                </a:cubicBezTo>
                <a:cubicBezTo>
                  <a:pt x="880" y="0"/>
                  <a:pt x="1064" y="124"/>
                  <a:pt x="1248" y="2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1320" y="1143000"/>
            <a:ext cx="1981080" cy="469800"/>
          </a:xfrm>
          <a:custGeom>
            <a:avLst/>
            <a:gdLst/>
            <a:ahLst/>
            <a:rect l="l" t="t" r="r" b="b"/>
            <a:pathLst>
              <a:path w="1248" h="296">
                <a:moveTo>
                  <a:pt x="0" y="296"/>
                </a:moveTo>
                <a:cubicBezTo>
                  <a:pt x="232" y="156"/>
                  <a:pt x="464" y="16"/>
                  <a:pt x="672" y="8"/>
                </a:cubicBezTo>
                <a:cubicBezTo>
                  <a:pt x="880" y="0"/>
                  <a:pt x="1064" y="124"/>
                  <a:pt x="1248" y="2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371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t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1371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Video stabilization using THMM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57480" y="1924200"/>
            <a:ext cx="2628720" cy="1942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629080" cy="1981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19320" y="4800600"/>
            <a:ext cx="464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lin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frames/sec on 2GHz Pen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1534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534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Stabilizing videos taken from a moving platform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876920" y="3200400"/>
            <a:ext cx="2095560" cy="1409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095560" y="3200400"/>
            <a:ext cx="2095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3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934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Airborne video stabilization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796000" y="4038480"/>
            <a:ext cx="3043080" cy="2283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1430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video stabiliz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Medium"/>
              </a:rPr>
              <a:t>Video cluster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119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ouping video frames into clusters based on the similarity mea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sential for video underst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bject-based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eta data, anno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utomated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Six break points vs. six things in video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99648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 video segmentation: Find break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91960" y="1600200"/>
            <a:ext cx="8305920" cy="4802040"/>
            <a:chOff x="291960" y="1600200"/>
            <a:chExt cx="8305920" cy="4802040"/>
          </a:xfrm>
        </p:grpSpPr>
        <p:sp>
          <p:nvSpPr>
            <p:cNvPr id="299" name=""/>
            <p:cNvSpPr/>
            <p:nvPr/>
          </p:nvSpPr>
          <p:spPr>
            <a:xfrm>
              <a:off x="7683480" y="2057400"/>
              <a:ext cx="0" cy="3657600"/>
            </a:xfrm>
            <a:prstGeom prst="line">
              <a:avLst/>
            </a:prstGeom>
            <a:ln w="1260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02600" y="2361960"/>
              <a:ext cx="0" cy="3657600"/>
            </a:xfrm>
            <a:prstGeom prst="line">
              <a:avLst/>
            </a:prstGeom>
            <a:ln w="1260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02200" y="2057400"/>
              <a:ext cx="0" cy="3657600"/>
            </a:xfrm>
            <a:prstGeom prst="line">
              <a:avLst/>
            </a:prstGeom>
            <a:ln w="1260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02000" y="2057400"/>
              <a:ext cx="0" cy="3657600"/>
            </a:xfrm>
            <a:prstGeom prst="line">
              <a:avLst/>
            </a:prstGeom>
            <a:ln w="1260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4960" y="2057400"/>
              <a:ext cx="0" cy="3657600"/>
            </a:xfrm>
            <a:prstGeom prst="line">
              <a:avLst/>
            </a:prstGeom>
            <a:ln w="1260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6880" y="2438280"/>
              <a:ext cx="8380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4960" y="2438280"/>
              <a:ext cx="10670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02000" y="2438280"/>
              <a:ext cx="16002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02200" y="2438280"/>
              <a:ext cx="32004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6880" y="4876560"/>
              <a:ext cx="8380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39880" y="487656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34960" y="4876560"/>
              <a:ext cx="30492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02000" y="487656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20760" y="487656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11480" y="4876560"/>
              <a:ext cx="6858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97280" y="4876560"/>
              <a:ext cx="30492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02200" y="4876560"/>
              <a:ext cx="3045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06760" y="4876560"/>
              <a:ext cx="121932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26080" y="487656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06960" y="4876560"/>
              <a:ext cx="30492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11880" y="4876560"/>
              <a:ext cx="1522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64160" y="4876560"/>
              <a:ext cx="8384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02600" y="2438280"/>
              <a:ext cx="12952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02600" y="243828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02600" y="4876560"/>
              <a:ext cx="12952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977760" y="1600200"/>
              <a:ext cx="693432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 flipH="1">
              <a:off x="596880" y="2286000"/>
              <a:ext cx="380880" cy="152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434600" y="2286000"/>
              <a:ext cx="762120" cy="152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502000" y="2286000"/>
              <a:ext cx="914400" cy="152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101840" y="2286000"/>
              <a:ext cx="533160" cy="152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31000" y="2286000"/>
              <a:ext cx="1371600" cy="152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49960" y="2286000"/>
              <a:ext cx="533520" cy="152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1960" y="25905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me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3111480" y="5715000"/>
              <a:ext cx="83808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4406760" y="5715000"/>
              <a:ext cx="83844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6540480" y="5638680"/>
              <a:ext cx="838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797280" y="2133360"/>
              <a:ext cx="3809880" cy="762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73600" y="4647960"/>
              <a:ext cx="3733560" cy="762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797280" y="5105160"/>
              <a:ext cx="228600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492360" y="5105160"/>
              <a:ext cx="137160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4254480" y="5105160"/>
              <a:ext cx="53352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940280" y="5105160"/>
              <a:ext cx="83808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92560" y="5105160"/>
              <a:ext cx="129564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921360" y="5105160"/>
              <a:ext cx="7632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663560" y="5181480"/>
              <a:ext cx="144792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2425680" y="5105160"/>
              <a:ext cx="91440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2044800" y="5181480"/>
              <a:ext cx="259056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76680" y="297180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long shot contains a pan of the camera back and forth among three scenes (classes 2,3 and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63244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ur goal: Find reoccurring scenes an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10949" t="8547" r="6387" b="12210"/>
          <a:stretch/>
        </p:blipFill>
        <p:spPr>
          <a:xfrm>
            <a:off x="882720" y="958680"/>
            <a:ext cx="7561080" cy="54183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Means of 50 learned clusters using THMM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Masked scene model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1" name=""/>
          <p:cNvSpPr/>
          <p:nvPr/>
        </p:nvSpPr>
        <p:spPr>
          <a:xfrm>
            <a:off x="3656160" y="2771640"/>
            <a:ext cx="711000" cy="71136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95880" y="3838680"/>
            <a:ext cx="711000" cy="711000"/>
          </a:xfrm>
          <a:prstGeom prst="ellipse">
            <a:avLst/>
          </a:pr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5600" y="2776680"/>
            <a:ext cx="711000" cy="711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048360" y="2459160"/>
            <a:ext cx="2392200" cy="13683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808200" y="2460600"/>
            <a:ext cx="2385720" cy="1368360"/>
            <a:chOff x="808200" y="2460600"/>
            <a:chExt cx="2385720" cy="1368360"/>
          </a:xfrm>
        </p:grpSpPr>
        <p:sp>
          <p:nvSpPr>
            <p:cNvPr id="356" name=""/>
            <p:cNvSpPr/>
            <p:nvPr/>
          </p:nvSpPr>
          <p:spPr>
            <a:xfrm>
              <a:off x="808200" y="2460600"/>
              <a:ext cx="2385720" cy="13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03480" y="2795760"/>
              <a:ext cx="1015920" cy="79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3"/>
          <a:srcRect l="12986" t="19698" r="44164" b="21057"/>
          <a:stretch/>
        </p:blipFill>
        <p:spPr>
          <a:xfrm>
            <a:off x="4146480" y="4718160"/>
            <a:ext cx="1025640" cy="811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135400" y="29433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297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00720" y="4006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71680" y="3434040"/>
            <a:ext cx="273960" cy="474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57480" y="3433680"/>
            <a:ext cx="273960" cy="47412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5600" y="1528920"/>
            <a:ext cx="711000" cy="711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35400" y="1695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95960" y="2230560"/>
            <a:ext cx="0" cy="5522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3716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3809880"/>
            <a:ext cx="232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z|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N(z;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21160" y="4449600"/>
            <a:ext cx="2743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 = W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 = WT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x = WT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27120" y="5850000"/>
            <a:ext cx="45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au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T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WT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FFT for Mahalanobis distanc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82840" y="3375000"/>
            <a:ext cx="6073920" cy="812520"/>
            <a:chOff x="2382840" y="3375000"/>
            <a:chExt cx="6073920" cy="81252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7386840" y="3375000"/>
              <a:ext cx="10699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6132600" y="3375000"/>
              <a:ext cx="10699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4880160" y="3375000"/>
              <a:ext cx="10699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4"/>
            <a:stretch/>
          </p:blipFill>
          <p:spPr>
            <a:xfrm>
              <a:off x="3625920" y="3375000"/>
              <a:ext cx="10699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5"/>
            <a:stretch/>
          </p:blipFill>
          <p:spPr>
            <a:xfrm>
              <a:off x="2382840" y="3375000"/>
              <a:ext cx="1060560" cy="80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2382840" y="4340160"/>
            <a:ext cx="1057320" cy="8017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57280" y="2209680"/>
            <a:ext cx="820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quick way to calculate distance between cluster mean and frame for all possible shif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8720" y="3389400"/>
            <a:ext cx="186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ifted cluster me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5480" y="4460760"/>
            <a:ext cx="16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46400" y="5686560"/>
            <a:ext cx="3962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325760" y="4454280"/>
            <a:ext cx="0" cy="15238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92920" y="569916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08200" y="427680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lo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84920" y="4518000"/>
            <a:ext cx="1966680" cy="812880"/>
            <a:chOff x="4984920" y="4518000"/>
            <a:chExt cx="1966680" cy="812880"/>
          </a:xfrm>
        </p:grpSpPr>
        <p:sp>
          <p:nvSpPr>
            <p:cNvPr id="387" name=""/>
            <p:cNvSpPr/>
            <p:nvPr/>
          </p:nvSpPr>
          <p:spPr>
            <a:xfrm>
              <a:off x="4984920" y="5191200"/>
              <a:ext cx="13968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40320" y="4784760"/>
              <a:ext cx="13968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97520" y="4518000"/>
              <a:ext cx="13968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54720" y="4657680"/>
              <a:ext cx="13968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11920" y="4950000"/>
              <a:ext cx="13968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09480" y="5943600"/>
            <a:ext cx="72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tionally expensiv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39640" y="1047600"/>
                <a:ext cx="837576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TΦT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T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TΦT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-T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FFT for circular convolutio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873000" y="3659040"/>
            <a:ext cx="4400640" cy="2082600"/>
            <a:chOff x="873000" y="3659040"/>
            <a:chExt cx="4400640" cy="2082600"/>
          </a:xfrm>
        </p:grpSpPr>
        <p:grpSp>
          <p:nvGrpSpPr>
            <p:cNvPr id="396" name=""/>
            <p:cNvGrpSpPr/>
            <p:nvPr/>
          </p:nvGrpSpPr>
          <p:grpSpPr>
            <a:xfrm>
              <a:off x="1871640" y="3757320"/>
              <a:ext cx="2927520" cy="1887480"/>
              <a:chOff x="1871640" y="3757320"/>
              <a:chExt cx="2927520" cy="188748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28880" y="3757320"/>
                <a:ext cx="1070280" cy="81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302000"/>
                <a:ext cx="1057320" cy="80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28880" y="4829040"/>
                <a:ext cx="1033560" cy="81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0" name=""/>
            <p:cNvSpPr/>
            <p:nvPr/>
          </p:nvSpPr>
          <p:spPr>
            <a:xfrm>
              <a:off x="873000" y="4379760"/>
              <a:ext cx="351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l-GR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Σ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.*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24200" y="4698720"/>
              <a:ext cx="1041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76520" y="3727080"/>
              <a:ext cx="1573200" cy="1944720"/>
            </a:xfrm>
            <a:prstGeom prst="bracePair">
              <a:avLst>
                <a:gd name="adj" fmla="val 8333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71760" y="3659040"/>
              <a:ext cx="3701880" cy="2082600"/>
            </a:xfrm>
            <a:prstGeom prst="bracePair">
              <a:avLst>
                <a:gd name="adj" fmla="val 8333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031760" y="2863800"/>
            <a:ext cx="4759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sum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*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ll possibl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62120" y="3068640"/>
            <a:ext cx="3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484360" y="2720880"/>
            <a:ext cx="530280" cy="681120"/>
          </a:xfrm>
          <a:prstGeom prst="bracePair">
            <a:avLst>
              <a:gd name="adj" fmla="val 8333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59040" y="2620800"/>
            <a:ext cx="1263600" cy="890640"/>
          </a:xfrm>
          <a:prstGeom prst="bracePair">
            <a:avLst>
              <a:gd name="adj" fmla="val 8333"/>
            </a:avLst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79760" y="2666880"/>
            <a:ext cx="3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65360" y="307512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64280" y="4508640"/>
            <a:ext cx="36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IFFT2(FFT2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.* FFT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69920" y="1903320"/>
            <a:ext cx="52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iag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*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1371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xample, take cross term x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3303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uster mean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5742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uster variance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57880" y="3355920"/>
            <a:ext cx="1014120" cy="233280"/>
          </a:xfrm>
          <a:custGeom>
            <a:avLst/>
            <a:gdLst/>
            <a:ahLst/>
            <a:rect l="l" t="t" r="r" b="b"/>
            <a:pathLst>
              <a:path w="639" h="147">
                <a:moveTo>
                  <a:pt x="639" y="57"/>
                </a:moveTo>
                <a:cubicBezTo>
                  <a:pt x="559" y="50"/>
                  <a:pt x="274" y="0"/>
                  <a:pt x="168" y="15"/>
                </a:cubicBezTo>
                <a:cubicBezTo>
                  <a:pt x="62" y="30"/>
                  <a:pt x="35" y="120"/>
                  <a:pt x="0" y="14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86160" y="5732640"/>
            <a:ext cx="995400" cy="252360"/>
          </a:xfrm>
          <a:custGeom>
            <a:avLst/>
            <a:gdLst/>
            <a:ahLst/>
            <a:rect l="l" t="t" r="r" b="b"/>
            <a:pathLst>
              <a:path w="627" h="159">
                <a:moveTo>
                  <a:pt x="627" y="159"/>
                </a:moveTo>
                <a:cubicBezTo>
                  <a:pt x="547" y="152"/>
                  <a:pt x="260" y="143"/>
                  <a:pt x="156" y="117"/>
                </a:cubicBezTo>
                <a:cubicBezTo>
                  <a:pt x="52" y="91"/>
                  <a:pt x="32" y="24"/>
                  <a:pt x="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28840" y="5246640"/>
            <a:ext cx="1071360" cy="714600"/>
          </a:xfrm>
          <a:custGeom>
            <a:avLst/>
            <a:gdLst/>
            <a:ahLst/>
            <a:rect l="l" t="t" r="r" b="b"/>
            <a:pathLst>
              <a:path w="675" h="450">
                <a:moveTo>
                  <a:pt x="0" y="450"/>
                </a:moveTo>
                <a:cubicBezTo>
                  <a:pt x="82" y="432"/>
                  <a:pt x="382" y="417"/>
                  <a:pt x="495" y="342"/>
                </a:cubicBezTo>
                <a:cubicBezTo>
                  <a:pt x="608" y="267"/>
                  <a:pt x="638" y="71"/>
                  <a:pt x="675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574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KEY PEOPLE</a:t>
            </a:r>
            <a:endParaRPr b="0" lang="en-US" sz="7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008" t="7146" r="0" b="28585"/>
          <a:stretch/>
        </p:blipFill>
        <p:spPr>
          <a:xfrm>
            <a:off x="990720" y="1447920"/>
            <a:ext cx="144756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23951" t="4267" r="23951" b="14934"/>
          <a:stretch/>
        </p:blipFill>
        <p:spPr>
          <a:xfrm>
            <a:off x="4403880" y="2286000"/>
            <a:ext cx="807840" cy="111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8280" y="18288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S. H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886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 Ivano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e Zh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3623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yam Raja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3886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hun Das Gu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54100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anja Petro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23623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t Set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00200" y="3809880"/>
            <a:ext cx="8064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6452" t="0" r="11826" b="4557"/>
          <a:stretch/>
        </p:blipFill>
        <p:spPr>
          <a:xfrm>
            <a:off x="4403880" y="5326200"/>
            <a:ext cx="836280" cy="115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rcRect l="9600" t="9000" r="12000" b="10800"/>
          <a:stretch/>
        </p:blipFill>
        <p:spPr>
          <a:xfrm>
            <a:off x="7083360" y="2286000"/>
            <a:ext cx="83340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rcRect l="15469" t="0" r="30938" b="0"/>
          <a:stretch/>
        </p:blipFill>
        <p:spPr>
          <a:xfrm>
            <a:off x="1600200" y="5326200"/>
            <a:ext cx="81612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rcRect l="16844" t="0" r="22458" b="0"/>
          <a:stretch/>
        </p:blipFill>
        <p:spPr>
          <a:xfrm>
            <a:off x="4403880" y="3809880"/>
            <a:ext cx="833400" cy="115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04240" y="38862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ny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04240" y="53341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lin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7086600" y="3809880"/>
            <a:ext cx="838080" cy="1143000"/>
          </a:xfrm>
          <a:prstGeom prst="rect">
            <a:avLst/>
          </a:prstGeom>
          <a:ln w="50760">
            <a:solidFill>
              <a:srgbClr val="00ff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9"/>
          <a:srcRect l="10000" t="0" r="7992" b="0"/>
          <a:stretch/>
        </p:blipFill>
        <p:spPr>
          <a:xfrm>
            <a:off x="7086600" y="5334120"/>
            <a:ext cx="826920" cy="1143000"/>
          </a:xfrm>
          <a:prstGeom prst="rect">
            <a:avLst/>
          </a:prstGeom>
          <a:ln w="507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On-line Learn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5132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Scale invariant model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2" name=""/>
          <p:cNvSpPr/>
          <p:nvPr/>
        </p:nvSpPr>
        <p:spPr>
          <a:xfrm>
            <a:off x="3656160" y="2428920"/>
            <a:ext cx="711000" cy="711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35600" y="2390760"/>
            <a:ext cx="711000" cy="71136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16200" y="3614760"/>
            <a:ext cx="1674720" cy="12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3786120"/>
            <a:ext cx="843120" cy="63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2560" y="25574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35600" y="1114560"/>
            <a:ext cx="711000" cy="711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35400" y="12812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5960" y="1816200"/>
            <a:ext cx="14400" cy="5238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16520" y="3814920"/>
            <a:ext cx="711000" cy="7110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73480" y="39672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1280" y="3151080"/>
            <a:ext cx="0" cy="6559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14960" y="3127320"/>
            <a:ext cx="642960" cy="8017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79920" y="3824280"/>
            <a:ext cx="711000" cy="71136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25720" y="26305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00640" y="4560840"/>
            <a:ext cx="0" cy="854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49760" y="4006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5460840"/>
            <a:ext cx="711000" cy="711360"/>
          </a:xfrm>
          <a:prstGeom prst="ellipse">
            <a:avLst/>
          </a:pr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29280" y="560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36920" y="4589640"/>
            <a:ext cx="642960" cy="801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rcRect l="5333" t="0" r="5333" b="0"/>
          <a:stretch/>
        </p:blipFill>
        <p:spPr>
          <a:xfrm>
            <a:off x="5943600" y="5462640"/>
            <a:ext cx="914400" cy="6811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5943600" y="2262240"/>
            <a:ext cx="1238400" cy="9525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rcRect l="0" t="0" r="33227" b="35525"/>
          <a:stretch/>
        </p:blipFill>
        <p:spPr>
          <a:xfrm>
            <a:off x="5943600" y="3710160"/>
            <a:ext cx="127008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Learning scale invariant model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rcRect l="0" t="0" r="9231" b="0"/>
          <a:stretch/>
        </p:blipFill>
        <p:spPr>
          <a:xfrm>
            <a:off x="1752480" y="3062160"/>
            <a:ext cx="2489400" cy="2216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rcRect l="0" t="0" r="9231" b="0"/>
          <a:stretch/>
        </p:blipFill>
        <p:spPr>
          <a:xfrm>
            <a:off x="5334120" y="3062160"/>
            <a:ext cx="2489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9000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9100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Learning scale invariant model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057400" y="3081240"/>
            <a:ext cx="1905120" cy="15620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181480" y="3081240"/>
            <a:ext cx="19051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600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600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Stabilization: translation and scale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762120" y="431496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ilizes both camera shake and change in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lin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pano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7534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534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Stabilization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324080" cy="10573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1324080" cy="10573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1324080" cy="1057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5105520" y="16002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86000" y="2895480"/>
            <a:ext cx="4572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286000" y="3733920"/>
            <a:ext cx="45720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Comprehensive scene model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043680" y="1000080"/>
            <a:ext cx="2392200" cy="136836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1892160" y="3701880"/>
            <a:ext cx="1443240" cy="1035360"/>
            <a:chOff x="1892160" y="3701880"/>
            <a:chExt cx="1443240" cy="1035360"/>
          </a:xfrm>
        </p:grpSpPr>
        <p:sp>
          <p:nvSpPr>
            <p:cNvPr id="464" name=""/>
            <p:cNvSpPr/>
            <p:nvPr/>
          </p:nvSpPr>
          <p:spPr>
            <a:xfrm>
              <a:off x="1892160" y="3701880"/>
              <a:ext cx="1443240" cy="10353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40880" y="3955680"/>
              <a:ext cx="616680" cy="606960"/>
            </a:xfrm>
            <a:prstGeom prst="roundRect">
              <a:avLst>
                <a:gd name="adj" fmla="val 25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902120" y="1971720"/>
            <a:ext cx="704880" cy="704880"/>
            <a:chOff x="4902120" y="1971720"/>
            <a:chExt cx="704880" cy="704880"/>
          </a:xfrm>
        </p:grpSpPr>
        <p:sp>
          <p:nvSpPr>
            <p:cNvPr id="467" name=""/>
            <p:cNvSpPr/>
            <p:nvPr/>
          </p:nvSpPr>
          <p:spPr>
            <a:xfrm>
              <a:off x="4902120" y="1971720"/>
              <a:ext cx="704880" cy="70488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59080" y="2156040"/>
              <a:ext cx="43200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i="1" lang="en-GB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483000" y="3733920"/>
            <a:ext cx="708120" cy="70308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3886200"/>
            <a:ext cx="606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902120" y="4913280"/>
            <a:ext cx="706320" cy="706320"/>
            <a:chOff x="4902120" y="4913280"/>
            <a:chExt cx="706320" cy="706320"/>
          </a:xfrm>
        </p:grpSpPr>
        <p:sp>
          <p:nvSpPr>
            <p:cNvPr id="472" name=""/>
            <p:cNvSpPr/>
            <p:nvPr/>
          </p:nvSpPr>
          <p:spPr>
            <a:xfrm>
              <a:off x="4902120" y="4913280"/>
              <a:ext cx="706320" cy="706320"/>
            </a:xfrm>
            <a:prstGeom prst="ellipse">
              <a:avLst/>
            </a:prstGeom>
            <a:solidFill>
              <a:srgbClr val="ff0000"/>
            </a:solidFill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6720" y="5108400"/>
              <a:ext cx="360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902120" y="985680"/>
            <a:ext cx="711360" cy="71136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29200" y="1143000"/>
            <a:ext cx="361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72200" y="1736640"/>
            <a:ext cx="6120" cy="225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902120" y="2952720"/>
            <a:ext cx="706680" cy="704880"/>
            <a:chOff x="4902120" y="2952720"/>
            <a:chExt cx="706680" cy="704880"/>
          </a:xfrm>
        </p:grpSpPr>
        <p:sp>
          <p:nvSpPr>
            <p:cNvPr id="478" name=""/>
            <p:cNvSpPr/>
            <p:nvPr/>
          </p:nvSpPr>
          <p:spPr>
            <a:xfrm>
              <a:off x="4902120" y="2952720"/>
              <a:ext cx="706680" cy="70488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59440" y="3093840"/>
              <a:ext cx="43344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i="1" lang="en-GB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111560" y="2230560"/>
            <a:ext cx="895320" cy="868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83000" y="2705040"/>
            <a:ext cx="704880" cy="704880"/>
            <a:chOff x="3483000" y="2705040"/>
            <a:chExt cx="704880" cy="704880"/>
          </a:xfrm>
        </p:grpSpPr>
        <p:sp>
          <p:nvSpPr>
            <p:cNvPr id="482" name=""/>
            <p:cNvSpPr/>
            <p:nvPr/>
          </p:nvSpPr>
          <p:spPr>
            <a:xfrm>
              <a:off x="3483000" y="2705040"/>
              <a:ext cx="704880" cy="70488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45000" y="2904840"/>
              <a:ext cx="3808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902120" y="3932280"/>
            <a:ext cx="704880" cy="704880"/>
            <a:chOff x="4902120" y="3932280"/>
            <a:chExt cx="704880" cy="704880"/>
          </a:xfrm>
        </p:grpSpPr>
        <p:sp>
          <p:nvSpPr>
            <p:cNvPr id="485" name=""/>
            <p:cNvSpPr/>
            <p:nvPr/>
          </p:nvSpPr>
          <p:spPr>
            <a:xfrm>
              <a:off x="4902120" y="3932280"/>
              <a:ext cx="704880" cy="70488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59080" y="4098960"/>
              <a:ext cx="43200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i="1" lang="en-GB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600200" y="4876920"/>
            <a:ext cx="198108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ounts for: Translation Scale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43280" y="2567160"/>
            <a:ext cx="1368360" cy="987120"/>
          </a:xfrm>
          <a:prstGeom prst="roundRect">
            <a:avLst>
              <a:gd name="adj" fmla="val 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47840" y="2870280"/>
            <a:ext cx="685800" cy="457200"/>
          </a:xfrm>
          <a:prstGeom prst="roundRect">
            <a:avLst>
              <a:gd name="adj" fmla="val 34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008080" y="3325680"/>
            <a:ext cx="247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930400" y="2631960"/>
            <a:ext cx="30492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30400" y="3325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2008080" y="2631960"/>
            <a:ext cx="24768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483000" y="1677960"/>
            <a:ext cx="704880" cy="704880"/>
            <a:chOff x="3483000" y="1677960"/>
            <a:chExt cx="704880" cy="704880"/>
          </a:xfrm>
        </p:grpSpPr>
        <p:sp>
          <p:nvSpPr>
            <p:cNvPr id="495" name=""/>
            <p:cNvSpPr/>
            <p:nvPr/>
          </p:nvSpPr>
          <p:spPr>
            <a:xfrm>
              <a:off x="3483000" y="1677960"/>
              <a:ext cx="704880" cy="704880"/>
            </a:xfrm>
            <a:prstGeom prst="ellipse">
              <a:avLst/>
            </a:prstGeom>
            <a:solidFill>
              <a:srgbClr val="ffff00"/>
            </a:solidFill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45000" y="1878120"/>
              <a:ext cx="3808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759720" y="5281560"/>
            <a:ext cx="1187280" cy="884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917720" y="1428840"/>
            <a:ext cx="1447920" cy="1039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6032520" y="2422440"/>
            <a:ext cx="2373120" cy="13716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6013440" y="3803760"/>
            <a:ext cx="2392200" cy="1371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2230560" y="1741320"/>
            <a:ext cx="685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2678040"/>
            <a:ext cx="6480" cy="225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57800" y="3683160"/>
            <a:ext cx="6480" cy="225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4648320"/>
            <a:ext cx="6480" cy="225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322800"/>
            <a:ext cx="838080" cy="7920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4313160"/>
            <a:ext cx="762120" cy="7160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Hierarchical video cluster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1219320"/>
            <a:ext cx="3733920" cy="838080"/>
          </a:xfrm>
          <a:prstGeom prst="cube">
            <a:avLst>
              <a:gd name="adj" fmla="val 7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-invariant clus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6560" y="1671480"/>
            <a:ext cx="6586560" cy="1457640"/>
          </a:xfrm>
          <a:custGeom>
            <a:avLst/>
            <a:gdLst/>
            <a:ahLst/>
            <a:rect l="l" t="t" r="r" b="b"/>
            <a:pathLst>
              <a:path w="4149" h="918">
                <a:moveTo>
                  <a:pt x="3366" y="0"/>
                </a:moveTo>
                <a:lnTo>
                  <a:pt x="4149" y="3"/>
                </a:lnTo>
                <a:lnTo>
                  <a:pt x="4149" y="483"/>
                </a:lnTo>
                <a:lnTo>
                  <a:pt x="0" y="486"/>
                </a:lnTo>
                <a:lnTo>
                  <a:pt x="0" y="918"/>
                </a:lnTo>
                <a:lnTo>
                  <a:pt x="999" y="918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2743200"/>
            <a:ext cx="3733920" cy="838080"/>
          </a:xfrm>
          <a:prstGeom prst="cube">
            <a:avLst>
              <a:gd name="adj" fmla="val 7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&amp; scale-invariant clus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7400" y="1600200"/>
            <a:ext cx="1752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176560" y="3114720"/>
            <a:ext cx="6586560" cy="1457280"/>
          </a:xfrm>
          <a:custGeom>
            <a:avLst/>
            <a:gdLst/>
            <a:ahLst/>
            <a:rect l="l" t="t" r="r" b="b"/>
            <a:pathLst>
              <a:path w="4149" h="918">
                <a:moveTo>
                  <a:pt x="3366" y="0"/>
                </a:moveTo>
                <a:lnTo>
                  <a:pt x="4149" y="3"/>
                </a:lnTo>
                <a:lnTo>
                  <a:pt x="4149" y="483"/>
                </a:lnTo>
                <a:lnTo>
                  <a:pt x="0" y="486"/>
                </a:lnTo>
                <a:lnTo>
                  <a:pt x="0" y="918"/>
                </a:lnTo>
                <a:lnTo>
                  <a:pt x="999" y="918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09880" y="4114800"/>
            <a:ext cx="3733920" cy="838080"/>
          </a:xfrm>
          <a:prstGeom prst="cube">
            <a:avLst>
              <a:gd name="adj" fmla="val 7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&amp; scale &amp; lighting change-invariant clus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00,000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0968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00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2800" y="274320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,000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76560" y="4562640"/>
            <a:ext cx="6586560" cy="1457280"/>
          </a:xfrm>
          <a:custGeom>
            <a:avLst/>
            <a:gdLst/>
            <a:ahLst/>
            <a:rect l="l" t="t" r="r" b="b"/>
            <a:pathLst>
              <a:path w="4149" h="918">
                <a:moveTo>
                  <a:pt x="3366" y="0"/>
                </a:moveTo>
                <a:lnTo>
                  <a:pt x="4149" y="3"/>
                </a:lnTo>
                <a:lnTo>
                  <a:pt x="4149" y="483"/>
                </a:lnTo>
                <a:lnTo>
                  <a:pt x="0" y="486"/>
                </a:lnTo>
                <a:lnTo>
                  <a:pt x="0" y="918"/>
                </a:lnTo>
                <a:lnTo>
                  <a:pt x="999" y="918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9880" y="5562720"/>
            <a:ext cx="3733920" cy="838080"/>
          </a:xfrm>
          <a:prstGeom prst="cube">
            <a:avLst>
              <a:gd name="adj" fmla="val 7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10 Video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0040" y="1171440"/>
            <a:ext cx="1523880" cy="838440"/>
          </a:xfrm>
          <a:prstGeom prst="cube">
            <a:avLst>
              <a:gd name="adj" fmla="val 7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w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Hierarchical cluster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522440" y="1954080"/>
            <a:ext cx="1501560" cy="331920"/>
            <a:chOff x="1522440" y="1954080"/>
            <a:chExt cx="1501560" cy="331920"/>
          </a:xfrm>
        </p:grpSpPr>
        <p:pic>
          <p:nvPicPr>
            <p:cNvPr id="522" name="" descr=""/>
            <p:cNvPicPr/>
            <p:nvPr/>
          </p:nvPicPr>
          <p:blipFill>
            <a:blip r:embed="rId1"/>
            <a:stretch/>
          </p:blipFill>
          <p:spPr>
            <a:xfrm>
              <a:off x="2269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2"/>
            <a:stretch/>
          </p:blipFill>
          <p:spPr>
            <a:xfrm>
              <a:off x="264708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3"/>
            <a:stretch/>
          </p:blipFill>
          <p:spPr>
            <a:xfrm>
              <a:off x="152244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189972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3006720" y="1954080"/>
            <a:ext cx="1501560" cy="331920"/>
            <a:chOff x="3006720" y="1954080"/>
            <a:chExt cx="1501560" cy="331920"/>
          </a:xfrm>
        </p:grpSpPr>
        <p:pic>
          <p:nvPicPr>
            <p:cNvPr id="527" name="" descr=""/>
            <p:cNvPicPr/>
            <p:nvPr/>
          </p:nvPicPr>
          <p:blipFill>
            <a:blip r:embed="rId5"/>
            <a:stretch/>
          </p:blipFill>
          <p:spPr>
            <a:xfrm>
              <a:off x="375408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6"/>
            <a:stretch/>
          </p:blipFill>
          <p:spPr>
            <a:xfrm>
              <a:off x="413136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7"/>
            <a:stretch/>
          </p:blipFill>
          <p:spPr>
            <a:xfrm>
              <a:off x="300672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8"/>
            <a:stretch/>
          </p:blipFill>
          <p:spPr>
            <a:xfrm>
              <a:off x="338400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"/>
          <p:cNvGrpSpPr/>
          <p:nvPr/>
        </p:nvGrpSpPr>
        <p:grpSpPr>
          <a:xfrm>
            <a:off x="4492800" y="1954080"/>
            <a:ext cx="1501200" cy="331920"/>
            <a:chOff x="4492800" y="1954080"/>
            <a:chExt cx="1501200" cy="331920"/>
          </a:xfrm>
        </p:grpSpPr>
        <p:pic>
          <p:nvPicPr>
            <p:cNvPr id="532" name="" descr=""/>
            <p:cNvPicPr/>
            <p:nvPr/>
          </p:nvPicPr>
          <p:blipFill>
            <a:blip r:embed="rId9"/>
            <a:stretch/>
          </p:blipFill>
          <p:spPr>
            <a:xfrm>
              <a:off x="5239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0"/>
            <a:stretch/>
          </p:blipFill>
          <p:spPr>
            <a:xfrm>
              <a:off x="561708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1"/>
            <a:stretch/>
          </p:blipFill>
          <p:spPr>
            <a:xfrm>
              <a:off x="4492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2"/>
            <a:stretch/>
          </p:blipFill>
          <p:spPr>
            <a:xfrm>
              <a:off x="4870080" y="1954080"/>
              <a:ext cx="37584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6" name=""/>
          <p:cNvGrpSpPr/>
          <p:nvPr/>
        </p:nvGrpSpPr>
        <p:grpSpPr>
          <a:xfrm>
            <a:off x="5978520" y="1954080"/>
            <a:ext cx="1501560" cy="331920"/>
            <a:chOff x="5978520" y="1954080"/>
            <a:chExt cx="1501560" cy="331920"/>
          </a:xfrm>
        </p:grpSpPr>
        <p:pic>
          <p:nvPicPr>
            <p:cNvPr id="537" name="" descr=""/>
            <p:cNvPicPr/>
            <p:nvPr/>
          </p:nvPicPr>
          <p:blipFill>
            <a:blip r:embed="rId13"/>
            <a:stretch/>
          </p:blipFill>
          <p:spPr>
            <a:xfrm>
              <a:off x="672588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14"/>
            <a:stretch/>
          </p:blipFill>
          <p:spPr>
            <a:xfrm>
              <a:off x="710316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5"/>
            <a:stretch/>
          </p:blipFill>
          <p:spPr>
            <a:xfrm>
              <a:off x="597852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16"/>
            <a:stretch/>
          </p:blipFill>
          <p:spPr>
            <a:xfrm>
              <a:off x="635580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"/>
          <p:cNvGrpSpPr/>
          <p:nvPr/>
        </p:nvGrpSpPr>
        <p:grpSpPr>
          <a:xfrm>
            <a:off x="7489800" y="1954080"/>
            <a:ext cx="1501560" cy="331920"/>
            <a:chOff x="7489800" y="1954080"/>
            <a:chExt cx="1501560" cy="331920"/>
          </a:xfrm>
        </p:grpSpPr>
        <p:pic>
          <p:nvPicPr>
            <p:cNvPr id="542" name="" descr=""/>
            <p:cNvPicPr/>
            <p:nvPr/>
          </p:nvPicPr>
          <p:blipFill>
            <a:blip r:embed="rId17"/>
            <a:stretch/>
          </p:blipFill>
          <p:spPr>
            <a:xfrm>
              <a:off x="823716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18"/>
            <a:stretch/>
          </p:blipFill>
          <p:spPr>
            <a:xfrm>
              <a:off x="861444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19"/>
            <a:stretch/>
          </p:blipFill>
          <p:spPr>
            <a:xfrm>
              <a:off x="7489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0"/>
            <a:stretch/>
          </p:blipFill>
          <p:spPr>
            <a:xfrm>
              <a:off x="786708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"/>
          <p:cNvSpPr/>
          <p:nvPr/>
        </p:nvSpPr>
        <p:spPr>
          <a:xfrm>
            <a:off x="380880" y="1752480"/>
            <a:ext cx="1295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level in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level in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level in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05120" y="2743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2743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114800" y="2743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2743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24480" y="27432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467480" y="27432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040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47712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7220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8564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27636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41936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48604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55272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777204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3886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41880" y="3886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9160" y="3886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33720" y="3048120"/>
            <a:ext cx="45720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343400" y="3048120"/>
            <a:ext cx="7632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019560" y="3048120"/>
            <a:ext cx="60948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743200" y="3048120"/>
            <a:ext cx="45720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495680" y="3048120"/>
            <a:ext cx="99072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71840" y="3048120"/>
            <a:ext cx="152388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71800" y="5486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43200" y="4191120"/>
            <a:ext cx="380880" cy="1295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276360" y="4191120"/>
            <a:ext cx="2819160" cy="1295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38862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67080" y="5486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191120"/>
            <a:ext cx="28440" cy="12906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29200" y="563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181480" y="563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5638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29600" y="3962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3962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34520" y="3962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Hierarchical cluster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2440" y="1954080"/>
            <a:ext cx="1501560" cy="331920"/>
            <a:chOff x="1522440" y="1954080"/>
            <a:chExt cx="1501560" cy="33192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2269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2"/>
            <a:stretch/>
          </p:blipFill>
          <p:spPr>
            <a:xfrm>
              <a:off x="264708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3"/>
            <a:stretch/>
          </p:blipFill>
          <p:spPr>
            <a:xfrm>
              <a:off x="152244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4"/>
            <a:stretch/>
          </p:blipFill>
          <p:spPr>
            <a:xfrm>
              <a:off x="189972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"/>
          <p:cNvGrpSpPr/>
          <p:nvPr/>
        </p:nvGrpSpPr>
        <p:grpSpPr>
          <a:xfrm>
            <a:off x="3006720" y="1954080"/>
            <a:ext cx="1501560" cy="331920"/>
            <a:chOff x="3006720" y="1954080"/>
            <a:chExt cx="1501560" cy="331920"/>
          </a:xfrm>
        </p:grpSpPr>
        <p:pic>
          <p:nvPicPr>
            <p:cNvPr id="599" name="" descr=""/>
            <p:cNvPicPr/>
            <p:nvPr/>
          </p:nvPicPr>
          <p:blipFill>
            <a:blip r:embed="rId5"/>
            <a:stretch/>
          </p:blipFill>
          <p:spPr>
            <a:xfrm>
              <a:off x="375408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413136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7"/>
            <a:stretch/>
          </p:blipFill>
          <p:spPr>
            <a:xfrm>
              <a:off x="300672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8"/>
            <a:stretch/>
          </p:blipFill>
          <p:spPr>
            <a:xfrm>
              <a:off x="338400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3" name=""/>
          <p:cNvGrpSpPr/>
          <p:nvPr/>
        </p:nvGrpSpPr>
        <p:grpSpPr>
          <a:xfrm>
            <a:off x="4492800" y="1954080"/>
            <a:ext cx="1501200" cy="331920"/>
            <a:chOff x="4492800" y="1954080"/>
            <a:chExt cx="1501200" cy="331920"/>
          </a:xfrm>
        </p:grpSpPr>
        <p:pic>
          <p:nvPicPr>
            <p:cNvPr id="604" name="" descr=""/>
            <p:cNvPicPr/>
            <p:nvPr/>
          </p:nvPicPr>
          <p:blipFill>
            <a:blip r:embed="rId9"/>
            <a:stretch/>
          </p:blipFill>
          <p:spPr>
            <a:xfrm>
              <a:off x="5239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0"/>
            <a:stretch/>
          </p:blipFill>
          <p:spPr>
            <a:xfrm>
              <a:off x="561708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11"/>
            <a:stretch/>
          </p:blipFill>
          <p:spPr>
            <a:xfrm>
              <a:off x="4492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12"/>
            <a:stretch/>
          </p:blipFill>
          <p:spPr>
            <a:xfrm>
              <a:off x="4870080" y="1954080"/>
              <a:ext cx="37584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5978520" y="1954080"/>
            <a:ext cx="1501560" cy="331920"/>
            <a:chOff x="5978520" y="1954080"/>
            <a:chExt cx="1501560" cy="331920"/>
          </a:xfrm>
        </p:grpSpPr>
        <p:pic>
          <p:nvPicPr>
            <p:cNvPr id="609" name="" descr=""/>
            <p:cNvPicPr/>
            <p:nvPr/>
          </p:nvPicPr>
          <p:blipFill>
            <a:blip r:embed="rId13"/>
            <a:stretch/>
          </p:blipFill>
          <p:spPr>
            <a:xfrm>
              <a:off x="672588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14"/>
            <a:stretch/>
          </p:blipFill>
          <p:spPr>
            <a:xfrm>
              <a:off x="710316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15"/>
            <a:stretch/>
          </p:blipFill>
          <p:spPr>
            <a:xfrm>
              <a:off x="597852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16"/>
            <a:stretch/>
          </p:blipFill>
          <p:spPr>
            <a:xfrm>
              <a:off x="635580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"/>
          <p:cNvGrpSpPr/>
          <p:nvPr/>
        </p:nvGrpSpPr>
        <p:grpSpPr>
          <a:xfrm>
            <a:off x="7489800" y="1954080"/>
            <a:ext cx="1501560" cy="331920"/>
            <a:chOff x="7489800" y="1954080"/>
            <a:chExt cx="1501560" cy="331920"/>
          </a:xfrm>
        </p:grpSpPr>
        <p:pic>
          <p:nvPicPr>
            <p:cNvPr id="614" name="" descr=""/>
            <p:cNvPicPr/>
            <p:nvPr/>
          </p:nvPicPr>
          <p:blipFill>
            <a:blip r:embed="rId17"/>
            <a:stretch/>
          </p:blipFill>
          <p:spPr>
            <a:xfrm>
              <a:off x="823716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18"/>
            <a:stretch/>
          </p:blipFill>
          <p:spPr>
            <a:xfrm>
              <a:off x="8614440" y="1954080"/>
              <a:ext cx="376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19"/>
            <a:stretch/>
          </p:blipFill>
          <p:spPr>
            <a:xfrm>
              <a:off x="7489800" y="1954080"/>
              <a:ext cx="3772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20"/>
            <a:stretch/>
          </p:blipFill>
          <p:spPr>
            <a:xfrm>
              <a:off x="7867080" y="1954080"/>
              <a:ext cx="37620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"/>
          <p:cNvSpPr/>
          <p:nvPr/>
        </p:nvSpPr>
        <p:spPr>
          <a:xfrm>
            <a:off x="380880" y="1752480"/>
            <a:ext cx="1295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level in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level in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level in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05120" y="27432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27432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2743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57800" y="2743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2743200"/>
            <a:ext cx="3812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67480" y="2743200"/>
            <a:ext cx="3812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0040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7712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5248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3848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10552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7220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564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27636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41936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548604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55272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7772040" y="2286000"/>
            <a:ext cx="22860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14600" y="38862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241880" y="38862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69160" y="38862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3048120"/>
            <a:ext cx="45720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343400" y="3048120"/>
            <a:ext cx="7632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019560" y="3048120"/>
            <a:ext cx="60948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743200" y="3048120"/>
            <a:ext cx="45720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495680" y="3048120"/>
            <a:ext cx="99072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171840" y="3048120"/>
            <a:ext cx="1523880" cy="838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971800" y="54864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743200" y="4191120"/>
            <a:ext cx="380880" cy="1295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276360" y="4191120"/>
            <a:ext cx="2819160" cy="12952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96080" y="38862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267080" y="5486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19720" y="4191120"/>
            <a:ext cx="28440" cy="12906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5400000">
            <a:off x="2399760" y="571320"/>
            <a:ext cx="533520" cy="2133720"/>
          </a:xfrm>
          <a:custGeom>
            <a:avLst/>
            <a:gdLst>
              <a:gd name="textAreaLeft" fmla="*/ 340920 w 533520"/>
              <a:gd name="textAreaRight" fmla="*/ 533880 w 5335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5400000">
            <a:off x="6819840" y="571320"/>
            <a:ext cx="533520" cy="2133360"/>
          </a:xfrm>
          <a:custGeom>
            <a:avLst/>
            <a:gdLst>
              <a:gd name="textAreaLeft" fmla="*/ 340920 w 533520"/>
              <a:gd name="textAreaRight" fmla="*/ 533880 w 5335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563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563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4120" y="5638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29600" y="3962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381880" y="3962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534520" y="3962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Who is working on what?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manja, Alex, Shyam: new transformations, lighting effects for stabilization and de-noising, clustering and mosaicing, layering and event retrie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t: Hierarch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e:  3D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hun: Super-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Hyper-clustering. Problem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724280" y="2209680"/>
            <a:ext cx="3657600" cy="2743200"/>
            <a:chOff x="4724280" y="2209680"/>
            <a:chExt cx="3657600" cy="2743200"/>
          </a:xfrm>
        </p:grpSpPr>
        <p:sp>
          <p:nvSpPr>
            <p:cNvPr id="668" name="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006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288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4280" y="42670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24280" y="46483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29200" y="45720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86600" y="43434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67480" y="41911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15200" y="47242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45720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72400" y="22096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53280" y="22096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77320" y="25146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029200" y="42670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48720" y="25146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82280" y="1698480"/>
            <a:ext cx="4411800" cy="3624120"/>
            <a:chOff x="4382280" y="1698480"/>
            <a:chExt cx="4411800" cy="3624120"/>
          </a:xfrm>
        </p:grpSpPr>
        <p:sp>
          <p:nvSpPr>
            <p:cNvPr id="685" name=""/>
            <p:cNvSpPr/>
            <p:nvPr/>
          </p:nvSpPr>
          <p:spPr>
            <a:xfrm rot="1590000">
              <a:off x="4647960" y="2209320"/>
              <a:ext cx="761760" cy="1371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590000">
              <a:off x="7696080" y="1828800"/>
              <a:ext cx="871560" cy="1219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48320" y="4038480"/>
              <a:ext cx="761760" cy="990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364000">
              <a:off x="6933960" y="3886200"/>
              <a:ext cx="1009440" cy="1300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33520" y="2057400"/>
            <a:ext cx="312408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ginally, N data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nitial mixtur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π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π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nt N &gt;&gt; C &gt;&gt;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Hyper-cluster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4382280" y="1698480"/>
            <a:ext cx="4411800" cy="3624120"/>
            <a:chOff x="4382280" y="1698480"/>
            <a:chExt cx="4411800" cy="3624120"/>
          </a:xfrm>
        </p:grpSpPr>
        <p:sp>
          <p:nvSpPr>
            <p:cNvPr id="692" name=""/>
            <p:cNvSpPr/>
            <p:nvPr/>
          </p:nvSpPr>
          <p:spPr>
            <a:xfrm rot="1590000">
              <a:off x="4647960" y="2209320"/>
              <a:ext cx="761760" cy="1371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590000">
              <a:off x="7696080" y="1828800"/>
              <a:ext cx="871560" cy="1219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48320" y="4038480"/>
              <a:ext cx="761760" cy="990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0364000">
              <a:off x="6933960" y="3886200"/>
              <a:ext cx="1009440" cy="1300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57200" y="22096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given mixture model, generate typical data points by sampl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48320" y="1752480"/>
            <a:ext cx="1218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π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467480" y="1371600"/>
            <a:ext cx="1219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π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502920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π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34320" y="525780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π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52880" y="2835360"/>
            <a:ext cx="13680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68720" y="4511520"/>
            <a:ext cx="136800" cy="136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91520" y="4495680"/>
            <a:ext cx="136440" cy="136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077320" y="2362320"/>
            <a:ext cx="13644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" y="356544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with C=4 components and distributi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Hyper-clustering. Resampl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382280" y="1698480"/>
            <a:ext cx="4411800" cy="3624120"/>
            <a:chOff x="4382280" y="1698480"/>
            <a:chExt cx="4411800" cy="3624120"/>
          </a:xfrm>
        </p:grpSpPr>
        <p:sp>
          <p:nvSpPr>
            <p:cNvPr id="708" name=""/>
            <p:cNvSpPr/>
            <p:nvPr/>
          </p:nvSpPr>
          <p:spPr>
            <a:xfrm rot="1590000">
              <a:off x="4647960" y="2209320"/>
              <a:ext cx="761760" cy="1371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590000">
              <a:off x="7696080" y="1828800"/>
              <a:ext cx="871560" cy="1219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48320" y="4038480"/>
              <a:ext cx="761760" cy="990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364000">
              <a:off x="6933960" y="3886200"/>
              <a:ext cx="1009440" cy="1300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648320" y="1981080"/>
            <a:ext cx="3809880" cy="3124440"/>
            <a:chOff x="4648320" y="1981080"/>
            <a:chExt cx="3809880" cy="3124440"/>
          </a:xfrm>
        </p:grpSpPr>
        <p:sp>
          <p:nvSpPr>
            <p:cNvPr id="713" name=""/>
            <p:cNvSpPr/>
            <p:nvPr/>
          </p:nvSpPr>
          <p:spPr>
            <a:xfrm>
              <a:off x="723888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10280" y="4191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62920" y="4343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15200" y="4495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6748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46748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280" y="2971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05520" y="2362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2428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76920" y="28195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29200" y="2971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2920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01000" y="1981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48720" y="2209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15328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96080" y="2438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77320" y="2514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0100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29600" y="2133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288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0552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0552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0060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5288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2428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01000" y="2362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48720" y="2590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76920" y="3124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48320" y="3124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0600" y="3276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0060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292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20120" y="4800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5200" y="4876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1028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09480" y="1981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 new data by sampling from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Virtual data y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Franklin Gothic Medium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648320" y="1981080"/>
            <a:ext cx="3809880" cy="3124440"/>
            <a:chOff x="4648320" y="1981080"/>
            <a:chExt cx="3809880" cy="3124440"/>
          </a:xfrm>
        </p:grpSpPr>
        <p:sp>
          <p:nvSpPr>
            <p:cNvPr id="753" name=""/>
            <p:cNvSpPr/>
            <p:nvPr/>
          </p:nvSpPr>
          <p:spPr>
            <a:xfrm>
              <a:off x="723888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10280" y="4191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4343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15200" y="4495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6748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6748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24280" y="2971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05520" y="2362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2428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76920" y="28195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29200" y="2971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920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01000" y="1981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48720" y="2209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5328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96080" y="2438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77320" y="2514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0100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229600" y="2133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5288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0552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0552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0060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5288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2428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001000" y="2362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48720" y="2590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76920" y="3124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48320" y="3124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00600" y="3276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0060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92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0120" y="4800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4876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6292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1028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609480" y="1981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 new data by sampling from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uster virtual data y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Franklin Gothic Medium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4648320" y="1981080"/>
            <a:ext cx="3809880" cy="3124440"/>
            <a:chOff x="4648320" y="1981080"/>
            <a:chExt cx="3809880" cy="3124440"/>
          </a:xfrm>
        </p:grpSpPr>
        <p:sp>
          <p:nvSpPr>
            <p:cNvPr id="793" name=""/>
            <p:cNvSpPr/>
            <p:nvPr/>
          </p:nvSpPr>
          <p:spPr>
            <a:xfrm>
              <a:off x="723888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10280" y="4191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62920" y="4343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15200" y="4495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6748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46748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24280" y="2971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05520" y="2362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2428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920" y="28195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29200" y="2971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2920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001000" y="1981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48720" y="2209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15328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96080" y="2438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77320" y="2514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0100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29600" y="2133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5288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0552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0552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00600" y="4114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5288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2428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01000" y="2362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48720" y="2590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76920" y="3124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48320" y="3124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800600" y="3276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0060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92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20120" y="4800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5200" y="4876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62920" y="4648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10280" y="4419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609480" y="1523880"/>
            <a:ext cx="32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virtual data into S=2 new hyper-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new distributio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20020200">
            <a:off x="3351240" y="2212920"/>
            <a:ext cx="5388120" cy="18288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20851200">
            <a:off x="4484520" y="3503520"/>
            <a:ext cx="4308480" cy="17557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464400" y="3053160"/>
            <a:ext cx="2402280" cy="1973160"/>
            <a:chOff x="464400" y="3053160"/>
            <a:chExt cx="2402280" cy="1973160"/>
          </a:xfrm>
        </p:grpSpPr>
        <p:sp>
          <p:nvSpPr>
            <p:cNvPr id="835" name=""/>
            <p:cNvSpPr/>
            <p:nvPr/>
          </p:nvSpPr>
          <p:spPr>
            <a:xfrm rot="1590000">
              <a:off x="609120" y="3331440"/>
              <a:ext cx="414720" cy="747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590000">
              <a:off x="2268720" y="3124080"/>
              <a:ext cx="474480" cy="663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9480" y="4327560"/>
              <a:ext cx="414720" cy="5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20364000">
              <a:off x="1854000" y="4244040"/>
              <a:ext cx="549360" cy="708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762120" y="35812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2120" y="44956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057400" y="44956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438280" y="3429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20020200">
            <a:off x="5775480" y="3076200"/>
            <a:ext cx="2665080" cy="9828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rot="20851200">
            <a:off x="6232680" y="3767040"/>
            <a:ext cx="2606400" cy="9288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57200" y="20574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 “r” with C=4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943600" y="1981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 “p” with S=2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52680" y="3657600"/>
            <a:ext cx="2210040" cy="914400"/>
          </a:xfrm>
          <a:prstGeom prst="rightArrow">
            <a:avLst>
              <a:gd name="adj1" fmla="val 50000"/>
              <a:gd name="adj2" fmla="val 60423"/>
            </a:avLst>
          </a:prstGeom>
          <a:solidFill>
            <a:srgbClr val="ffffff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429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467480" y="42670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28195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Optimization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data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distribution 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, “virtual” data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lihood of the virtual data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avoid dealing with data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 optimize expec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um Expected Likeli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6172200" y="2666880"/>
                <a:ext cx="1905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1208160" y="42670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, and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Reparametrization (old C, new S)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914400" y="3048120"/>
                <a:ext cx="2286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914400" y="4648320"/>
                <a:ext cx="50529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914400" y="1447920"/>
                <a:ext cx="358452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Additional benefit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609480" y="1828800"/>
                <a:ext cx="66978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≥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 rot="1686000">
            <a:off x="1599840" y="3809520"/>
            <a:ext cx="457200" cy="68580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1686000">
            <a:off x="2057040" y="4419360"/>
            <a:ext cx="380880" cy="53316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rot="19942800">
            <a:off x="2514600" y="3962520"/>
            <a:ext cx="457200" cy="6858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686000">
            <a:off x="5562360" y="5790960"/>
            <a:ext cx="457200" cy="68580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rot="1686000">
            <a:off x="5028840" y="5866920"/>
            <a:ext cx="380880" cy="53352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19942800">
            <a:off x="5181480" y="5181480"/>
            <a:ext cx="457200" cy="68580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21286800">
            <a:off x="5791320" y="5028840"/>
            <a:ext cx="693720" cy="76212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81280" y="41148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714760" y="4267080"/>
            <a:ext cx="1076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190600" y="46483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353200" y="5486400"/>
            <a:ext cx="1076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086520" y="538164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43440" y="610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72120" y="609588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295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found approximate distance between two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28954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intractable to find distance between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but it is easy to find distance between their individu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048120" y="4152960"/>
            <a:ext cx="2743200" cy="952560"/>
          </a:xfrm>
          <a:custGeom>
            <a:avLst/>
            <a:gdLst/>
            <a:ahLst/>
            <a:rect l="l" t="t" r="r" b="b"/>
            <a:pathLst>
              <a:path w="1680" h="552">
                <a:moveTo>
                  <a:pt x="0" y="120"/>
                </a:moveTo>
                <a:cubicBezTo>
                  <a:pt x="268" y="60"/>
                  <a:pt x="536" y="0"/>
                  <a:pt x="816" y="72"/>
                </a:cubicBezTo>
                <a:cubicBezTo>
                  <a:pt x="1096" y="144"/>
                  <a:pt x="1536" y="472"/>
                  <a:pt x="1680" y="55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048120" y="4572000"/>
            <a:ext cx="2057400" cy="762120"/>
          </a:xfrm>
          <a:custGeom>
            <a:avLst/>
            <a:gdLst/>
            <a:ahLst/>
            <a:rect l="l" t="t" r="r" b="b"/>
            <a:pathLst>
              <a:path w="1344" h="480">
                <a:moveTo>
                  <a:pt x="0" y="0"/>
                </a:moveTo>
                <a:cubicBezTo>
                  <a:pt x="0" y="0"/>
                  <a:pt x="672" y="240"/>
                  <a:pt x="1344" y="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724280"/>
            <a:ext cx="2057400" cy="1371600"/>
          </a:xfrm>
          <a:custGeom>
            <a:avLst/>
            <a:gdLst/>
            <a:ahLst/>
            <a:rect l="l" t="t" r="r" b="b"/>
            <a:pathLst>
              <a:path w="1296" h="864">
                <a:moveTo>
                  <a:pt x="0" y="0"/>
                </a:moveTo>
                <a:cubicBezTo>
                  <a:pt x="84" y="264"/>
                  <a:pt x="168" y="528"/>
                  <a:pt x="384" y="672"/>
                </a:cubicBezTo>
                <a:cubicBezTo>
                  <a:pt x="600" y="816"/>
                  <a:pt x="948" y="840"/>
                  <a:pt x="1296" y="86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Additional benefit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1390680" cy="9144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 rot="16200000">
            <a:off x="571320" y="3009960"/>
            <a:ext cx="1524240" cy="380880"/>
          </a:xfrm>
          <a:prstGeom prst="leftRightArrow">
            <a:avLst>
              <a:gd name="adj1" fmla="val 50000"/>
              <a:gd name="adj2" fmla="val 79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143000" y="3032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533520" y="4181400"/>
            <a:ext cx="2660400" cy="19908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457200" y="1219320"/>
            <a:ext cx="8686800" cy="502920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733920" y="1219320"/>
            <a:ext cx="0" cy="5029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1686000">
            <a:off x="3885840" y="1294920"/>
            <a:ext cx="457200" cy="68580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rot="1686000">
            <a:off x="4343040" y="1904760"/>
            <a:ext cx="380880" cy="53316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rot="19942800">
            <a:off x="4800600" y="1447920"/>
            <a:ext cx="457200" cy="68580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rot="1686000">
            <a:off x="4647960" y="5257440"/>
            <a:ext cx="457200" cy="68580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1686000">
            <a:off x="4114440" y="5333760"/>
            <a:ext cx="380880" cy="53316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9942800">
            <a:off x="4267080" y="4648320"/>
            <a:ext cx="457200" cy="68580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rot="21286800">
            <a:off x="4876920" y="4495320"/>
            <a:ext cx="693720" cy="76212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16200000">
            <a:off x="3924360" y="3085560"/>
            <a:ext cx="1523880" cy="381240"/>
          </a:xfrm>
          <a:prstGeom prst="leftRightArrow">
            <a:avLst>
              <a:gd name="adj1" fmla="val 50000"/>
              <a:gd name="adj2" fmla="val 795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943600" y="1523880"/>
            <a:ext cx="30481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L divergence between two mixtures is not solvable in the close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framework gives an approximation to KL divergence between 2 arbitrary mix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s for image, video and event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48320" y="3032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L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067280" y="16002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00760" y="1790640"/>
            <a:ext cx="1076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476600" y="2133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438800" y="4952880"/>
            <a:ext cx="1076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172120" y="48481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829040" y="557208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57720" y="5562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an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from the beginning of the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Typical frame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5"/>
          <a:stretch/>
        </p:blipFill>
        <p:spPr>
          <a:xfrm>
            <a:off x="2590920" y="32004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6"/>
          <a:stretch/>
        </p:blipFill>
        <p:spPr>
          <a:xfrm>
            <a:off x="2590920" y="449568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7"/>
          <a:stretch/>
        </p:blipFill>
        <p:spPr>
          <a:xfrm>
            <a:off x="2590920" y="1905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8"/>
          <a:stretch/>
        </p:blipFill>
        <p:spPr>
          <a:xfrm>
            <a:off x="4419720" y="32004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9"/>
          <a:stretch/>
        </p:blipFill>
        <p:spPr>
          <a:xfrm>
            <a:off x="4419720" y="449568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0"/>
          <a:stretch/>
        </p:blipFill>
        <p:spPr>
          <a:xfrm>
            <a:off x="4419720" y="1905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11"/>
          <a:stretch/>
        </p:blipFill>
        <p:spPr>
          <a:xfrm>
            <a:off x="6248520" y="32004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12"/>
          <a:stretch/>
        </p:blipFill>
        <p:spPr>
          <a:xfrm>
            <a:off x="6248520" y="449568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ustering of clusters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7238880" y="4332240"/>
            <a:ext cx="1752840" cy="138276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4627440" y="1676520"/>
            <a:ext cx="1773360" cy="13921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3"/>
          <a:stretch/>
        </p:blipFill>
        <p:spPr>
          <a:xfrm>
            <a:off x="4627440" y="4319640"/>
            <a:ext cx="1771920" cy="139536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4"/>
          <a:stretch/>
        </p:blipFill>
        <p:spPr>
          <a:xfrm>
            <a:off x="2571840" y="4319640"/>
            <a:ext cx="1771560" cy="139536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5"/>
          <a:stretch/>
        </p:blipFill>
        <p:spPr>
          <a:xfrm>
            <a:off x="2571840" y="1676520"/>
            <a:ext cx="1771560" cy="1392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6"/>
          <a:stretch/>
        </p:blipFill>
        <p:spPr>
          <a:xfrm>
            <a:off x="457200" y="4319640"/>
            <a:ext cx="1773360" cy="13921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7"/>
          <a:stretch/>
        </p:blipFill>
        <p:spPr>
          <a:xfrm>
            <a:off x="457200" y="1676520"/>
            <a:ext cx="1773360" cy="13921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457200" y="5867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71840" y="58672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the scale, shift, ad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627440" y="58672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the scale,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143000" y="32767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333600" y="32767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65880" y="327672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71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-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209680" y="4876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343400" y="48006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4800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" y="1295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luster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Clust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2057400" y="776160"/>
            <a:ext cx="4500720" cy="6081840"/>
          </a:xfrm>
          <a:prstGeom prst="rect">
            <a:avLst/>
          </a:prstGeom>
          <a:ln w="0">
            <a:noFill/>
          </a:ln>
        </p:spPr>
      </p:pic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133360" y="-305280"/>
            <a:ext cx="821988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ustering Exampl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8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19520" y="3048120"/>
            <a:ext cx="2286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19520" y="4648320"/>
            <a:ext cx="3045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819520" y="6019920"/>
            <a:ext cx="3045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8320" y="3809880"/>
            <a:ext cx="3045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Demo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609480" y="1204920"/>
            <a:ext cx="83059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9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Demo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Video clustering: comparison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1670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380880" y="57150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nd tru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t dete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cal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39680"/>
            <a:ext cx="8228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Superresolution: an approach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051000" y="5105520"/>
            <a:ext cx="1949400" cy="1523160"/>
            <a:chOff x="3051000" y="5105520"/>
            <a:chExt cx="1949400" cy="1523160"/>
          </a:xfrm>
        </p:grpSpPr>
        <p:grpSp>
          <p:nvGrpSpPr>
            <p:cNvPr id="951" name=""/>
            <p:cNvGrpSpPr/>
            <p:nvPr/>
          </p:nvGrpSpPr>
          <p:grpSpPr>
            <a:xfrm>
              <a:off x="3051000" y="5262480"/>
              <a:ext cx="1593720" cy="1366200"/>
              <a:chOff x="3051000" y="5262480"/>
              <a:chExt cx="1593720" cy="1366200"/>
            </a:xfrm>
          </p:grpSpPr>
          <p:sp>
            <p:nvSpPr>
              <p:cNvPr id="952" name=""/>
              <p:cNvSpPr/>
              <p:nvPr/>
            </p:nvSpPr>
            <p:spPr>
              <a:xfrm>
                <a:off x="4386240" y="64400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200840" y="64400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5080" y="64400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831480" y="64400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645720" y="64400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458520" y="64400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273120" y="64400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85560" y="64400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86240" y="6275520"/>
                <a:ext cx="18720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00840" y="6275520"/>
                <a:ext cx="18720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5080" y="6275520"/>
                <a:ext cx="18720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31480" y="6275520"/>
                <a:ext cx="18684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645720" y="6275520"/>
                <a:ext cx="18684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458520" y="6275520"/>
                <a:ext cx="18684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73120" y="6275520"/>
                <a:ext cx="18684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085560" y="6275520"/>
                <a:ext cx="187200" cy="1645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240" y="611208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200840" y="611208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15080" y="611208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831480" y="611208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645720" y="611208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458520" y="611208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273120" y="611208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85560" y="611208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386240" y="59504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200840" y="59504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015080" y="59504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31480" y="59504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645720" y="59504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458520" y="59504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73120" y="595044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085560" y="595044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386240" y="578412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200840" y="578412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015080" y="578412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831480" y="578412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645720" y="578412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458520" y="578412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273120" y="578412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85560" y="578412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386240" y="5609520"/>
                <a:ext cx="18720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00840" y="5609520"/>
                <a:ext cx="18720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015080" y="5609520"/>
                <a:ext cx="18720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31480" y="5609520"/>
                <a:ext cx="18684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645720" y="5609520"/>
                <a:ext cx="18684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458520" y="5609520"/>
                <a:ext cx="18684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273120" y="5609520"/>
                <a:ext cx="18684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85560" y="5609520"/>
                <a:ext cx="187200" cy="175680"/>
              </a:xfrm>
              <a:prstGeom prst="roundRect">
                <a:avLst>
                  <a:gd name="adj" fmla="val 90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386240" y="544320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200840" y="544320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015080" y="544320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831480" y="544320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645720" y="544320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58520" y="544320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273120" y="5443200"/>
                <a:ext cx="18684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085560" y="5443200"/>
                <a:ext cx="187200" cy="166320"/>
              </a:xfrm>
              <a:prstGeom prst="roundRect">
                <a:avLst>
                  <a:gd name="adj" fmla="val 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386240" y="5293800"/>
                <a:ext cx="18720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200840" y="5293800"/>
                <a:ext cx="18720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15080" y="5293800"/>
                <a:ext cx="18720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831480" y="5293800"/>
                <a:ext cx="18684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645720" y="5293800"/>
                <a:ext cx="18684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58520" y="5293800"/>
                <a:ext cx="18684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273120" y="5293800"/>
                <a:ext cx="18684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085560" y="5293800"/>
                <a:ext cx="187200" cy="149040"/>
              </a:xfrm>
              <a:prstGeom prst="roundRect">
                <a:avLst>
                  <a:gd name="adj" fmla="val 10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85560" y="5609520"/>
                <a:ext cx="14878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085560" y="5784120"/>
                <a:ext cx="14878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085560" y="5950440"/>
                <a:ext cx="14878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085560" y="6112080"/>
                <a:ext cx="14878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85560" y="6275520"/>
                <a:ext cx="14878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85560" y="6440040"/>
                <a:ext cx="148788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458520" y="5293800"/>
                <a:ext cx="108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45720" y="5293800"/>
                <a:ext cx="108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831480" y="5293800"/>
                <a:ext cx="108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015080" y="5293800"/>
                <a:ext cx="144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200840" y="5293800"/>
                <a:ext cx="144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386240" y="5293800"/>
                <a:ext cx="144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73120" y="5293800"/>
                <a:ext cx="108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85560" y="5443200"/>
                <a:ext cx="14878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85560" y="5293800"/>
                <a:ext cx="148788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85560" y="5293800"/>
                <a:ext cx="144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573800" y="5293800"/>
                <a:ext cx="1080" cy="1312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5560" y="6606720"/>
                <a:ext cx="148788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51000" y="5883840"/>
                <a:ext cx="1076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51000" y="5262480"/>
                <a:ext cx="1076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51000" y="6530760"/>
                <a:ext cx="1076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796560" y="5883840"/>
                <a:ext cx="1058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796560" y="5262480"/>
                <a:ext cx="1058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796560" y="6530760"/>
                <a:ext cx="1058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538880" y="5883840"/>
                <a:ext cx="1058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538880" y="5262480"/>
                <a:ext cx="1058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538880" y="6530760"/>
                <a:ext cx="10584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3408480" y="5105520"/>
              <a:ext cx="1591920" cy="1366200"/>
              <a:chOff x="3408480" y="5105520"/>
              <a:chExt cx="1591920" cy="1366200"/>
            </a:xfrm>
          </p:grpSpPr>
          <p:sp>
            <p:nvSpPr>
              <p:cNvPr id="1044" name=""/>
              <p:cNvSpPr/>
              <p:nvPr/>
            </p:nvSpPr>
            <p:spPr>
              <a:xfrm>
                <a:off x="3408480" y="5726880"/>
                <a:ext cx="105840" cy="97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408480" y="5105520"/>
                <a:ext cx="105840" cy="9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08480" y="6373440"/>
                <a:ext cx="105840" cy="9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153680" y="5726880"/>
                <a:ext cx="107640" cy="97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153680" y="5105520"/>
                <a:ext cx="107640" cy="9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153680" y="6373440"/>
                <a:ext cx="107640" cy="9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894200" y="5726880"/>
                <a:ext cx="106200" cy="97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894200" y="5105520"/>
                <a:ext cx="106200" cy="9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894200" y="6373440"/>
                <a:ext cx="106200" cy="9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3284640" y="3508200"/>
            <a:ext cx="18720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097080" y="3508200"/>
            <a:ext cx="18756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09880" y="3508200"/>
            <a:ext cx="18720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724120" y="3508200"/>
            <a:ext cx="18720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536920" y="3508200"/>
            <a:ext cx="18720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351160" y="3508200"/>
            <a:ext cx="18720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163600" y="3508200"/>
            <a:ext cx="18756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976400" y="3508200"/>
            <a:ext cx="187200" cy="1670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84640" y="3343320"/>
            <a:ext cx="18720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097080" y="3343320"/>
            <a:ext cx="18756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09880" y="3343320"/>
            <a:ext cx="18720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724120" y="3343320"/>
            <a:ext cx="18720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536920" y="3343320"/>
            <a:ext cx="18720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351160" y="3343320"/>
            <a:ext cx="18720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163600" y="3343320"/>
            <a:ext cx="18756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76400" y="3343320"/>
            <a:ext cx="187200" cy="1648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284640" y="31780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097080" y="317808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909880" y="31780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724120" y="31780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36920" y="31780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351160" y="31780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63600" y="317808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976400" y="31780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84640" y="30099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97080" y="300996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909880" y="30099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724120" y="30099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36920" y="30099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351160" y="30099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163600" y="300996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976400" y="30099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284640" y="28447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097080" y="284472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909880" y="28447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724120" y="28447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36920" y="28447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51160" y="28447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63600" y="284472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976400" y="28447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284640" y="2668680"/>
            <a:ext cx="18720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097080" y="2668680"/>
            <a:ext cx="18756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09880" y="2668680"/>
            <a:ext cx="18720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724120" y="2668680"/>
            <a:ext cx="18720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536920" y="2668680"/>
            <a:ext cx="18720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351160" y="2668680"/>
            <a:ext cx="18720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163600" y="2668680"/>
            <a:ext cx="18756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76400" y="2668680"/>
            <a:ext cx="187200" cy="17604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284640" y="25034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097080" y="250344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09880" y="25034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24120" y="25034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536920" y="25034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51160" y="25034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63600" y="250344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976400" y="25034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84640" y="235440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097080" y="2354400"/>
            <a:ext cx="18756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09880" y="235440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724120" y="235440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536920" y="235440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51160" y="235440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163600" y="2354400"/>
            <a:ext cx="18756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976400" y="235440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976400" y="266868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976400" y="284472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976400" y="300996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976400" y="317808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76400" y="334332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976400" y="350820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351160" y="235440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536920" y="235440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724120" y="235440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909880" y="235440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097080" y="2354400"/>
            <a:ext cx="180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284640" y="235440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163600" y="2354400"/>
            <a:ext cx="180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976400" y="250344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976400" y="235440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76400" y="2354400"/>
            <a:ext cx="180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470400" y="235440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976400" y="367524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41480" y="2943360"/>
            <a:ext cx="10800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941480" y="2320920"/>
            <a:ext cx="10800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941480" y="3598920"/>
            <a:ext cx="10800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689200" y="2943360"/>
            <a:ext cx="10656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689200" y="2320920"/>
            <a:ext cx="10656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689200" y="3598920"/>
            <a:ext cx="10656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435480" y="2943360"/>
            <a:ext cx="10620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435480" y="2320920"/>
            <a:ext cx="10620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35480" y="3598920"/>
            <a:ext cx="10620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532480" y="352440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345280" y="352440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57720" y="352440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971960" y="352440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784760" y="352440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599000" y="352440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411800" y="352440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224240" y="352440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532480" y="3359160"/>
            <a:ext cx="18720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45280" y="3359160"/>
            <a:ext cx="18720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57720" y="3359160"/>
            <a:ext cx="18756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971960" y="3359160"/>
            <a:ext cx="18756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84760" y="3359160"/>
            <a:ext cx="18720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599000" y="3359160"/>
            <a:ext cx="18720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411800" y="3359160"/>
            <a:ext cx="18720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224240" y="3359160"/>
            <a:ext cx="187560" cy="16524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32480" y="31939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45280" y="31939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57720" y="319392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971960" y="319392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784760" y="31939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599000" y="31939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411800" y="319392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24240" y="319392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532480" y="30272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345280" y="30272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157720" y="302724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971960" y="302724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784760" y="30272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599000" y="30272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411800" y="302724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224240" y="302724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532480" y="28605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345280" y="28605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157720" y="286056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971960" y="286056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784760" y="28605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599000" y="28605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11800" y="286056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224240" y="286056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532480" y="2685960"/>
            <a:ext cx="18720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345280" y="2685960"/>
            <a:ext cx="18720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157720" y="2685960"/>
            <a:ext cx="18756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971960" y="2685960"/>
            <a:ext cx="18756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784760" y="2685960"/>
            <a:ext cx="18720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599000" y="2685960"/>
            <a:ext cx="18720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411800" y="2685960"/>
            <a:ext cx="18720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224240" y="2685960"/>
            <a:ext cx="187560" cy="176400"/>
          </a:xfrm>
          <a:prstGeom prst="roundRect">
            <a:avLst>
              <a:gd name="adj" fmla="val 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32480" y="25192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45280" y="25192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57720" y="251928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71960" y="251928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784760" y="25192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599000" y="25192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411800" y="2519280"/>
            <a:ext cx="18720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224240" y="2519280"/>
            <a:ext cx="187560" cy="166680"/>
          </a:xfrm>
          <a:prstGeom prst="roundRect">
            <a:avLst>
              <a:gd name="adj" fmla="val 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532480" y="237024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345280" y="237024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157720" y="2370240"/>
            <a:ext cx="18756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971960" y="2370240"/>
            <a:ext cx="18756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784760" y="237024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599000" y="237024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411800" y="2370240"/>
            <a:ext cx="18720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224240" y="2370240"/>
            <a:ext cx="187560" cy="149040"/>
          </a:xfrm>
          <a:prstGeom prst="roundRect">
            <a:avLst>
              <a:gd name="adj" fmla="val 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224240" y="268596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24240" y="286056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224240" y="302724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224240" y="319392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224240" y="335916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224240" y="352440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599000" y="237024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784760" y="237024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971960" y="2370240"/>
            <a:ext cx="180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57720" y="2370240"/>
            <a:ext cx="180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345280" y="237024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532480" y="237024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411800" y="237024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24240" y="2519280"/>
            <a:ext cx="149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224240" y="237024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224240" y="2370240"/>
            <a:ext cx="180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718240" y="2370240"/>
            <a:ext cx="1440" cy="132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224240" y="3691080"/>
            <a:ext cx="1494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89320" y="2960640"/>
            <a:ext cx="108000" cy="98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202280" y="2338560"/>
            <a:ext cx="106200" cy="96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189320" y="3614760"/>
            <a:ext cx="108000" cy="98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943520" y="2955960"/>
            <a:ext cx="106200" cy="96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943520" y="2338560"/>
            <a:ext cx="106200" cy="96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7040" y="3614760"/>
            <a:ext cx="106560" cy="98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684760" y="2955960"/>
            <a:ext cx="106560" cy="96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684760" y="2338560"/>
            <a:ext cx="106560" cy="96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683320" y="3614760"/>
            <a:ext cx="106200" cy="98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773440" y="3807000"/>
            <a:ext cx="276120" cy="1287360"/>
          </a:xfrm>
          <a:prstGeom prst="line">
            <a:avLst/>
          </a:prstGeom>
          <a:ln w="91440">
            <a:solidFill>
              <a:srgbClr val="ff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4419360" y="3865680"/>
            <a:ext cx="492120" cy="1136520"/>
          </a:xfrm>
          <a:prstGeom prst="line">
            <a:avLst/>
          </a:prstGeom>
          <a:ln w="91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480" y="13716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: probabilistically learn shift (and perhaps zoom) scale that aligns two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34120" y="45720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result is obtained by interpolation on the regular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One of the original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rcRect l="0" t="0" r="369" b="369"/>
          <a:stretch/>
        </p:blipFill>
        <p:spPr>
          <a:xfrm>
            <a:off x="2220840" y="1306440"/>
            <a:ext cx="484524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Super-resolved resul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rcRect l="185" t="185" r="0" b="0"/>
          <a:stretch/>
        </p:blipFill>
        <p:spPr>
          <a:xfrm>
            <a:off x="2211480" y="1297080"/>
            <a:ext cx="485280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Summary of current work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new graphical models for video with emphasis 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-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FFT)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erarch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invar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ical clus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-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Goals and objective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Cross Cutting / Enabling Technologies</a:t>
            </a: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28600"/>
            <a:ext cx="822960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 algorithms for general video analysis based on probabilistic graphical mode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hasi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 clustering, stabilization and de-no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 layers ex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retrie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light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Probabilistic Graphical Modeling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sti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describe probability distributions over the video signal rather than signal direc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al (Gener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video in terms of process that generated it using hidden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Benefits of PGM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ly more robust: Due to explicit modeling of sources of variability (object appearance + background no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ality: Bayes optimal solution. No other classifier can outperform on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: EM algorithm, on-line learning, use of FFT, hierarchic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Factorization property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systems can often be described by probabilistic models that involve thousands of random variab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, joint probability distribution that describes probabilistic model can b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ctoriz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o a number of terms, each involving only a few variab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 represent a natural way to visualize probabilistic models. They also help invent new, faster algo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4:32:35Z</dcterms:created>
  <dc:creator>npetrovc</dc:creator>
  <dc:description/>
  <dc:language>en-US</dc:language>
  <cp:lastModifiedBy>npetrovc</cp:lastModifiedBy>
  <dcterms:modified xsi:type="dcterms:W3CDTF">2004-06-21T14:32:42Z</dcterms:modified>
  <cp:revision>1</cp:revision>
  <dc:subject/>
  <dc:title>VACE Phase II       Semi-annual Workshop  Probabilistic Graphical Model Based Tools For Video Analysis  P.I. Thomas S. Huang  University of Illinois at Urbana-Champaign</dc:title>
</cp:coreProperties>
</file>