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jpeg" ContentType="image/jpeg"/>
  <Override PartName="/ppt/media/image6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33.png" ContentType="image/png"/>
  <Override PartName="/ppt/media/image13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2240" y="696960"/>
            <a:ext cx="463068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D61607-382D-499E-B60C-FEE5BE660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BA9B48-68A0-4FB2-AA14-FC8E7E1BB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884E97-BEAB-4E82-A6CB-20DEABD4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7C9D-9EA8-4DE2-8F74-53EA54FA7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8296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000" y="3503160"/>
            <a:ext cx="8296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2D8E-3FB6-44CD-BA06-8D749A3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1880" y="10587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1000" y="35031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1880" y="35031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6439-6EE8-4152-9C5C-22A8FB7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2671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6120" y="1058760"/>
            <a:ext cx="2671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058760"/>
            <a:ext cx="2671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000" y="3503160"/>
            <a:ext cx="2671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6120" y="3503160"/>
            <a:ext cx="2671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503160"/>
            <a:ext cx="2671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56EF-277C-46D4-8A62-24421C329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41000" y="1058760"/>
            <a:ext cx="82962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5BC8-8486-4780-A333-56DDC6E1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8296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D8B7-7D08-4B19-A134-A1F62D7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4048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880" y="1058760"/>
            <a:ext cx="4048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6B97-7817-4C55-932D-40B3450F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0FE1-03C3-4EA0-B99C-95CB7D47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9200" y="101520"/>
            <a:ext cx="823788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BC67-77AC-42B0-88B2-B06382A8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1880" y="1058760"/>
            <a:ext cx="4048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1000" y="35031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E0E8-242A-4084-81A3-61E2D9CA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4048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1880" y="10587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1880" y="35031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86B8-2411-4246-AC27-FAEFCFFD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9200" y="84600"/>
            <a:ext cx="82378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1880" y="1058760"/>
            <a:ext cx="4048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1000" y="3503160"/>
            <a:ext cx="82962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5991-E87E-4CB0-8DBF-D18AAC61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1000" y="1058760"/>
            <a:ext cx="8296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A48-0959-4861-A9CF-2DD728CE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646200" y="6173640"/>
            <a:ext cx="2590560" cy="684000"/>
            <a:chOff x="-646200" y="6173640"/>
            <a:chExt cx="2590560" cy="684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90720" y="6173640"/>
              <a:ext cx="1054800" cy="2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1205640" y="6214680"/>
              <a:ext cx="564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-646200" y="6428880"/>
              <a:ext cx="259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241aa8"/>
                  </a:solidFill>
                  <a:latin typeface="Arial"/>
                </a:rPr>
                <a:t>V</a:t>
              </a:r>
              <a:r>
                <a:rPr b="1" i="1" lang="en-US" sz="900" spc="-1" strike="noStrike">
                  <a:solidFill>
                    <a:srgbClr val="1879aa"/>
                  </a:solidFill>
                  <a:latin typeface="Arial"/>
                </a:rPr>
                <a:t>ideo </a:t>
              </a:r>
              <a:r>
                <a:rPr b="1" i="1" lang="en-US" sz="1100" spc="-1" strike="noStrike">
                  <a:solidFill>
                    <a:srgbClr val="241aa8"/>
                  </a:solidFill>
                  <a:latin typeface="Arial"/>
                </a:rPr>
                <a:t>A</a:t>
              </a:r>
              <a:r>
                <a:rPr b="1" i="1" lang="en-US" sz="900" spc="-1" strike="noStrike">
                  <a:solidFill>
                    <a:srgbClr val="1879aa"/>
                  </a:solidFill>
                  <a:latin typeface="Arial"/>
                </a:rPr>
                <a:t>nalys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241aa8"/>
                  </a:solidFill>
                  <a:latin typeface="Arial"/>
                </a:rPr>
                <a:t>C</a:t>
              </a:r>
              <a:r>
                <a:rPr b="1" i="1" lang="en-US" sz="900" spc="-1" strike="noStrike">
                  <a:solidFill>
                    <a:srgbClr val="1879aa"/>
                  </a:solidFill>
                  <a:latin typeface="Arial"/>
                </a:rPr>
                <a:t>ontent </a:t>
              </a:r>
              <a:r>
                <a:rPr b="1" i="1" lang="en-US" sz="1100" spc="-1" strike="noStrike">
                  <a:solidFill>
                    <a:srgbClr val="241aa8"/>
                  </a:solidFill>
                  <a:latin typeface="Arial"/>
                </a:rPr>
                <a:t>E</a:t>
              </a:r>
              <a:r>
                <a:rPr b="1" i="1" lang="en-US" sz="900" spc="-1" strike="noStrike">
                  <a:solidFill>
                    <a:srgbClr val="1879aa"/>
                  </a:solidFill>
                  <a:latin typeface="Arial"/>
                </a:rPr>
                <a:t>xtrac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4.png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25.png"/><Relationship Id="rId22" Type="http://schemas.openxmlformats.org/officeDocument/2006/relationships/image" Target="../media/image26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10.jpeg"/><Relationship Id="rId18" Type="http://schemas.openxmlformats.org/officeDocument/2006/relationships/image" Target="../media/image27.png"/><Relationship Id="rId19" Type="http://schemas.openxmlformats.org/officeDocument/2006/relationships/image" Target="../media/image26.wmf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ist.gov/speech/tests/tdt/" TargetMode="External"/><Relationship Id="rId2" Type="http://schemas.openxmlformats.org/officeDocument/2006/relationships/hyperlink" Target="http://www.nist.gov/speech/tests/tdt/" TargetMode="External"/><Relationship Id="rId3" Type="http://schemas.openxmlformats.org/officeDocument/2006/relationships/hyperlink" Target="http://www.nist.gov/speech/tests/tdt/" TargetMode="External"/><Relationship Id="rId4" Type="http://schemas.openxmlformats.org/officeDocument/2006/relationships/image" Target="../media/image28.png"/><Relationship Id="rId5" Type="http://schemas.openxmlformats.org/officeDocument/2006/relationships/hyperlink" Target="http://www.nist.gov/speech/tests/tdt/tasks/segment.htm" TargetMode="External"/><Relationship Id="rId6" Type="http://schemas.openxmlformats.org/officeDocument/2006/relationships/hyperlink" Target="http://www.nist.gov/speech/tests/tdt/tasks/track.htm" TargetMode="External"/><Relationship Id="rId7" Type="http://schemas.openxmlformats.org/officeDocument/2006/relationships/hyperlink" Target="http://www.nist.gov/speech/tests/tdt/tasks/detect.htm" TargetMode="External"/><Relationship Id="rId8" Type="http://schemas.openxmlformats.org/officeDocument/2006/relationships/hyperlink" Target="http://www.nist.gov/speech/tests/tdt/tasks/fsd.htm" TargetMode="External"/><Relationship Id="rId9" Type="http://schemas.openxmlformats.org/officeDocument/2006/relationships/hyperlink" Target="http://www.nist.gov/speech/tests/tdt/tasks/lnk.htm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8400" y="837720"/>
            <a:ext cx="7185240" cy="22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d Detection and Evalu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atory Topic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72640" y="3123720"/>
            <a:ext cx="7551720" cy="22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ind Naphade, IBM T. J. Watson Research Center (naphade@us.ibm.c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h-Fu Chang, Lexing Xie, Columbi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COTR: CIA (Randy Pa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CE-II Midterm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3—25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52280"/>
          <a:ext cx="123048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12304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077320" y="76320"/>
            <a:ext cx="9126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DT Evaluation Met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200" y="982440"/>
            <a:ext cx="8029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d Average Detection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520" y="3854520"/>
            <a:ext cx="7772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ly scaled w.r.t. # of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Example: random guess for 20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680" y="235440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 Normalize w.r.t. trivial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2760" y="337176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 Average over all top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06640" y="4756320"/>
            <a:ext cx="1482480" cy="906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95840" y="3481560"/>
            <a:ext cx="811080" cy="233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468440" y="2938320"/>
            <a:ext cx="6243480" cy="328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90480" y="1949400"/>
            <a:ext cx="8147160" cy="297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96760" y="141444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Assign top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min. cost clus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2984400" y="4730760"/>
            <a:ext cx="57373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sks Invol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1000" y="1058760"/>
            <a:ext cx="8296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) use of existing (but incomplete) TDT ground truth with modification based on multimod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y Detection Evaluation already a part of TREC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ory boundaries from TRECVID to annotate and evaluate 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ory boundaries not known, can built similar co-occurrence matrix using a finer temporal unit (such as a shot) that is almost perfectly de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280" y="289728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DT Ground-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5040" y="1262160"/>
            <a:ext cx="7945560" cy="44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 event or activity, along with all directly related events and activ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(TDT2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(TDT 3)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ions, Scandals/Hearings, Legal /Criminal Cases, Natural Disasters, Accidents, Ongoing violence or war, Science and Discovery, Finances, New Laws, Sports , MISC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+ Political and Diplomatic Mee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elebrity/Human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top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(TDT 2) + 60 (TDT 3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pped to the topic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ory can be assigned to more than one topics (TD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DT Ground-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5040" y="1744560"/>
            <a:ext cx="7761240" cy="36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lection: random scan by L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DC annotators work with one subset of topics (a list of up to 20) at a time, reading stories in sequence from a given SGML sample file, and marking which topics in the chosen list (if any) are addressed in each story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-based labeling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0640" y="146160"/>
            <a:ext cx="779328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23 stories in 30 frequen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0960" y="1655640"/>
            <a:ext cx="5754600" cy="65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ian Economic Crisis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nica Lewinsky Case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y Martin Sues PGA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e visits Cuba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98 Winter Olympics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Conflict with Iraq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mbing AL Clinic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ble Car Crash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na Airlines Crash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rnado in Florida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hn Glenn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gt. Gene McKinney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ssberg baby murder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. Spock Dies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tional Tobacco Settlement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agra Approval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nesboro shooting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ames Earl Ray's Retrial?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ts in Space!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India, A Nuclear Power?"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raeli-Palestinian Talks (London)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ti-Suharto Violence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abomber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orld AIDS Conference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b incentives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M Strike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BA finals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fghan Earthquake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rman Train derails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nton-Jiang Debate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2520" y="1157400"/>
            <a:ext cx="9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ic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69880" y="11635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93920" y="11336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ic 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29440" y="1609560"/>
            <a:ext cx="2646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 of 151 vide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, F1, F2, Test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41 segment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66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3280" y="166680"/>
            <a:ext cx="869328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ideo Broadcast Analysis with Foreign News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7200" y="4530600"/>
            <a:ext cx="85266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6320" indent="-166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320" indent="-16632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-level and Thread-level access mechanisms can greatly reduce time required by analysts to absorb information conveyed across multiple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320" indent="-16632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such as search, retrieval, filtering, browsing and summarization can happen at coarse granularities across channels thus making them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320" indent="-16632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formation discovery possible with suggested story-links across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920" y="4489560"/>
            <a:ext cx="8683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27280" y="6492960"/>
            <a:ext cx="98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5-Jan-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flipH="1">
            <a:off x="6840360" y="836640"/>
            <a:ext cx="77472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24560" y="3541680"/>
            <a:ext cx="2360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7460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wsing &amp; navig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ification &amp; m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24560" y="728640"/>
            <a:ext cx="2457360" cy="3660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23080" y="1068480"/>
            <a:ext cx="97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5680" y="968400"/>
            <a:ext cx="5451480" cy="3689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83400" y="2631960"/>
            <a:ext cx="25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15080" y="1546200"/>
            <a:ext cx="15620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6120" y="317160"/>
            <a:ext cx="7566120" cy="50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tecting Threads based on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ultimod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1004760"/>
            <a:ext cx="0" cy="54943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68760" y="4052880"/>
            <a:ext cx="4348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ahoma"/>
                <a:ea typeface="Arial"/>
              </a:rPr>
              <a:t>Our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ompletely unsupervised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Dynamic mixture models (HMM, HHMM) for each mod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ta-mixture model on top for multi-modal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EM algorithm with sid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000" y="3830760"/>
            <a:ext cx="41814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ahoma"/>
                <a:ea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isual cues not previously expl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emporally asynchronous streams, irregularly sampled across mod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Detection of mid-level visual tok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Exploitation of syntactic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754440"/>
            <a:ext cx="7939080" cy="428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52920" y="1343160"/>
            <a:ext cx="4065480" cy="22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2249640" y="2403360"/>
          <a:ext cx="471240" cy="3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49640" y="2403360"/>
                    <a:ext cx="4712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41320" y="1565280"/>
            <a:ext cx="452520" cy="322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262240" y="1573200"/>
            <a:ext cx="453960" cy="322200"/>
          </a:xfrm>
          <a:prstGeom prst="rect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306440" y="1565280"/>
            <a:ext cx="452520" cy="32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793880" y="240192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12840" y="2401920"/>
            <a:ext cx="452160" cy="32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820800" y="240192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1246320" y="2401920"/>
            <a:ext cx="452160" cy="32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89160" y="1555920"/>
            <a:ext cx="923760" cy="339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840" y="1555920"/>
            <a:ext cx="939600" cy="339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49640" y="1546200"/>
            <a:ext cx="479160" cy="3682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" y="2376360"/>
            <a:ext cx="480960" cy="36684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1720" y="2389320"/>
            <a:ext cx="933480" cy="349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84520" y="2394000"/>
            <a:ext cx="950760" cy="3445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37440" y="1555920"/>
            <a:ext cx="58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785880" y="1565280"/>
            <a:ext cx="45072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336600" y="1565280"/>
            <a:ext cx="452520" cy="322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725480" y="1981080"/>
            <a:ext cx="452520" cy="32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2262240" y="1981080"/>
            <a:ext cx="453960" cy="32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1273320" y="1981080"/>
            <a:ext cx="452160" cy="32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3120" y="1962000"/>
            <a:ext cx="480960" cy="355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8200" y="1968480"/>
            <a:ext cx="1384200" cy="349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54320" y="1963800"/>
            <a:ext cx="479520" cy="36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312840" y="1981080"/>
            <a:ext cx="452160" cy="322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7"/>
          <a:stretch/>
        </p:blipFill>
        <p:spPr>
          <a:xfrm>
            <a:off x="820800" y="1981080"/>
            <a:ext cx="45252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2023920" y="2757240"/>
            <a:ext cx="211320" cy="198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82840" y="2962440"/>
            <a:ext cx="89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News Threa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3280" y="1486080"/>
            <a:ext cx="1998360" cy="1298520"/>
          </a:xfrm>
          <a:custGeom>
            <a:avLst/>
            <a:gdLst/>
            <a:ahLst/>
            <a:rect l="l" t="t" r="r" b="b"/>
            <a:pathLst>
              <a:path w="3470" h="2371">
                <a:moveTo>
                  <a:pt x="76" y="813"/>
                </a:moveTo>
                <a:cubicBezTo>
                  <a:pt x="276" y="810"/>
                  <a:pt x="477" y="815"/>
                  <a:pt x="677" y="804"/>
                </a:cubicBezTo>
                <a:cubicBezTo>
                  <a:pt x="686" y="804"/>
                  <a:pt x="682" y="787"/>
                  <a:pt x="685" y="779"/>
                </a:cubicBezTo>
                <a:cubicBezTo>
                  <a:pt x="694" y="751"/>
                  <a:pt x="693" y="749"/>
                  <a:pt x="719" y="728"/>
                </a:cubicBezTo>
                <a:cubicBezTo>
                  <a:pt x="762" y="694"/>
                  <a:pt x="802" y="681"/>
                  <a:pt x="855" y="669"/>
                </a:cubicBezTo>
                <a:cubicBezTo>
                  <a:pt x="954" y="602"/>
                  <a:pt x="894" y="390"/>
                  <a:pt x="897" y="322"/>
                </a:cubicBezTo>
                <a:cubicBezTo>
                  <a:pt x="902" y="207"/>
                  <a:pt x="927" y="173"/>
                  <a:pt x="1007" y="93"/>
                </a:cubicBezTo>
                <a:cubicBezTo>
                  <a:pt x="1035" y="65"/>
                  <a:pt x="1068" y="31"/>
                  <a:pt x="1109" y="25"/>
                </a:cubicBezTo>
                <a:cubicBezTo>
                  <a:pt x="1184" y="13"/>
                  <a:pt x="1263" y="7"/>
                  <a:pt x="1338" y="0"/>
                </a:cubicBezTo>
                <a:cubicBezTo>
                  <a:pt x="1488" y="5"/>
                  <a:pt x="1623" y="13"/>
                  <a:pt x="1770" y="25"/>
                </a:cubicBezTo>
                <a:cubicBezTo>
                  <a:pt x="1969" y="97"/>
                  <a:pt x="2004" y="78"/>
                  <a:pt x="2286" y="84"/>
                </a:cubicBezTo>
                <a:cubicBezTo>
                  <a:pt x="2320" y="106"/>
                  <a:pt x="2343" y="134"/>
                  <a:pt x="2380" y="152"/>
                </a:cubicBezTo>
                <a:cubicBezTo>
                  <a:pt x="2427" y="224"/>
                  <a:pt x="2445" y="301"/>
                  <a:pt x="2473" y="381"/>
                </a:cubicBezTo>
                <a:cubicBezTo>
                  <a:pt x="2468" y="649"/>
                  <a:pt x="2457" y="867"/>
                  <a:pt x="2447" y="1126"/>
                </a:cubicBezTo>
                <a:cubicBezTo>
                  <a:pt x="2449" y="1175"/>
                  <a:pt x="2399" y="1428"/>
                  <a:pt x="2515" y="1465"/>
                </a:cubicBezTo>
                <a:cubicBezTo>
                  <a:pt x="2582" y="1568"/>
                  <a:pt x="2813" y="1538"/>
                  <a:pt x="2888" y="1541"/>
                </a:cubicBezTo>
                <a:cubicBezTo>
                  <a:pt x="2939" y="1543"/>
                  <a:pt x="2989" y="1547"/>
                  <a:pt x="3040" y="1550"/>
                </a:cubicBezTo>
                <a:cubicBezTo>
                  <a:pt x="3077" y="1561"/>
                  <a:pt x="3113" y="1574"/>
                  <a:pt x="3150" y="1584"/>
                </a:cubicBezTo>
                <a:cubicBezTo>
                  <a:pt x="3182" y="1608"/>
                  <a:pt x="3197" y="1640"/>
                  <a:pt x="3227" y="1660"/>
                </a:cubicBezTo>
                <a:cubicBezTo>
                  <a:pt x="3254" y="1677"/>
                  <a:pt x="3299" y="1678"/>
                  <a:pt x="3328" y="1685"/>
                </a:cubicBezTo>
                <a:cubicBezTo>
                  <a:pt x="3365" y="1694"/>
                  <a:pt x="3398" y="1717"/>
                  <a:pt x="3430" y="1736"/>
                </a:cubicBezTo>
                <a:cubicBezTo>
                  <a:pt x="3433" y="1773"/>
                  <a:pt x="3438" y="1809"/>
                  <a:pt x="3438" y="1846"/>
                </a:cubicBezTo>
                <a:cubicBezTo>
                  <a:pt x="3438" y="1946"/>
                  <a:pt x="3470" y="2260"/>
                  <a:pt x="3303" y="2304"/>
                </a:cubicBezTo>
                <a:cubicBezTo>
                  <a:pt x="3263" y="2330"/>
                  <a:pt x="3221" y="2340"/>
                  <a:pt x="3176" y="2355"/>
                </a:cubicBezTo>
                <a:cubicBezTo>
                  <a:pt x="3159" y="2361"/>
                  <a:pt x="3125" y="2371"/>
                  <a:pt x="3125" y="2371"/>
                </a:cubicBezTo>
                <a:cubicBezTo>
                  <a:pt x="3043" y="2368"/>
                  <a:pt x="2961" y="2368"/>
                  <a:pt x="2879" y="2363"/>
                </a:cubicBezTo>
                <a:cubicBezTo>
                  <a:pt x="2821" y="2360"/>
                  <a:pt x="2759" y="2338"/>
                  <a:pt x="2701" y="2329"/>
                </a:cubicBezTo>
                <a:cubicBezTo>
                  <a:pt x="2622" y="2288"/>
                  <a:pt x="2519" y="2284"/>
                  <a:pt x="2430" y="2270"/>
                </a:cubicBezTo>
                <a:cubicBezTo>
                  <a:pt x="2363" y="2236"/>
                  <a:pt x="2283" y="2229"/>
                  <a:pt x="2210" y="2211"/>
                </a:cubicBezTo>
                <a:cubicBezTo>
                  <a:pt x="2136" y="2192"/>
                  <a:pt x="2238" y="2214"/>
                  <a:pt x="2159" y="2185"/>
                </a:cubicBezTo>
                <a:cubicBezTo>
                  <a:pt x="2107" y="2166"/>
                  <a:pt x="2044" y="2169"/>
                  <a:pt x="1990" y="2160"/>
                </a:cubicBezTo>
                <a:cubicBezTo>
                  <a:pt x="1956" y="2149"/>
                  <a:pt x="1922" y="2137"/>
                  <a:pt x="1888" y="2126"/>
                </a:cubicBezTo>
                <a:cubicBezTo>
                  <a:pt x="1877" y="2109"/>
                  <a:pt x="1865" y="2092"/>
                  <a:pt x="1854" y="2075"/>
                </a:cubicBezTo>
                <a:cubicBezTo>
                  <a:pt x="1832" y="2043"/>
                  <a:pt x="1835" y="1999"/>
                  <a:pt x="1812" y="1965"/>
                </a:cubicBezTo>
                <a:cubicBezTo>
                  <a:pt x="1798" y="1920"/>
                  <a:pt x="1778" y="1887"/>
                  <a:pt x="1744" y="1855"/>
                </a:cubicBezTo>
                <a:cubicBezTo>
                  <a:pt x="1731" y="1813"/>
                  <a:pt x="1716" y="1776"/>
                  <a:pt x="1685" y="1745"/>
                </a:cubicBezTo>
                <a:cubicBezTo>
                  <a:pt x="1668" y="1680"/>
                  <a:pt x="1617" y="1597"/>
                  <a:pt x="1549" y="1575"/>
                </a:cubicBezTo>
                <a:cubicBezTo>
                  <a:pt x="1524" y="1567"/>
                  <a:pt x="1498" y="1565"/>
                  <a:pt x="1473" y="1558"/>
                </a:cubicBezTo>
                <a:cubicBezTo>
                  <a:pt x="1407" y="1513"/>
                  <a:pt x="1223" y="1526"/>
                  <a:pt x="1168" y="1524"/>
                </a:cubicBezTo>
                <a:cubicBezTo>
                  <a:pt x="1089" y="1521"/>
                  <a:pt x="1010" y="1519"/>
                  <a:pt x="931" y="1516"/>
                </a:cubicBezTo>
                <a:cubicBezTo>
                  <a:pt x="858" y="1513"/>
                  <a:pt x="784" y="1510"/>
                  <a:pt x="711" y="1507"/>
                </a:cubicBezTo>
                <a:cubicBezTo>
                  <a:pt x="635" y="1500"/>
                  <a:pt x="567" y="1482"/>
                  <a:pt x="491" y="1474"/>
                </a:cubicBezTo>
                <a:cubicBezTo>
                  <a:pt x="379" y="1444"/>
                  <a:pt x="271" y="1406"/>
                  <a:pt x="160" y="1372"/>
                </a:cubicBezTo>
                <a:cubicBezTo>
                  <a:pt x="118" y="1343"/>
                  <a:pt x="141" y="1364"/>
                  <a:pt x="101" y="1304"/>
                </a:cubicBezTo>
                <a:cubicBezTo>
                  <a:pt x="95" y="1296"/>
                  <a:pt x="84" y="1279"/>
                  <a:pt x="84" y="1279"/>
                </a:cubicBezTo>
                <a:cubicBezTo>
                  <a:pt x="62" y="1208"/>
                  <a:pt x="39" y="1140"/>
                  <a:pt x="25" y="1067"/>
                </a:cubicBezTo>
                <a:cubicBezTo>
                  <a:pt x="29" y="973"/>
                  <a:pt x="0" y="848"/>
                  <a:pt x="109" y="813"/>
                </a:cubicBezTo>
                <a:cubicBezTo>
                  <a:pt x="140" y="793"/>
                  <a:pt x="125" y="796"/>
                  <a:pt x="152" y="79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87800" y="2406600"/>
          <a:ext cx="1238040" cy="81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87800" y="2406600"/>
                    <a:ext cx="12380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193920" y="1162080"/>
          <a:ext cx="1228680" cy="941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93920" y="1162080"/>
                    <a:ext cx="12286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206520" y="938160"/>
            <a:ext cx="11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Arial"/>
              </a:rPr>
              <a:t>News Web Sit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82760" y="3209760"/>
            <a:ext cx="11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Arial"/>
              </a:rPr>
              <a:t>News Web Sit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4160" y="1874880"/>
            <a:ext cx="271440" cy="8715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70120" y="2026800"/>
            <a:ext cx="1257480" cy="5065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2120" y="2255760"/>
            <a:ext cx="90360" cy="1922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0760" y="1847880"/>
            <a:ext cx="12600" cy="1857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4560" y="1187280"/>
            <a:ext cx="157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Arial"/>
              </a:rPr>
              <a:t>News Video 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2"/>
          <a:stretch/>
        </p:blipFill>
        <p:spPr>
          <a:xfrm>
            <a:off x="1027080" y="2906640"/>
            <a:ext cx="393840" cy="316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24840" y="1960560"/>
            <a:ext cx="58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0680" y="2421000"/>
            <a:ext cx="58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14280" y="1141560"/>
            <a:ext cx="9720" cy="229212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54480" y="1030320"/>
            <a:ext cx="366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Arial"/>
              </a:rPr>
              <a:t>Dynamic Hierarchical Mixture Mod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189000"/>
            <a:ext cx="84866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n ET on Thread Detection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1200" y="831960"/>
            <a:ext cx="6253560" cy="4814280"/>
            <a:chOff x="241200" y="831960"/>
            <a:chExt cx="6253560" cy="4814280"/>
          </a:xfrm>
        </p:grpSpPr>
        <p:graphicFrame>
          <p:nvGraphicFramePr>
            <p:cNvPr id="120" name=""/>
            <p:cNvGraphicFramePr/>
            <p:nvPr/>
          </p:nvGraphicFramePr>
          <p:xfrm>
            <a:off x="4528440" y="3394440"/>
            <a:ext cx="1035720" cy="7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28440" y="3394440"/>
                      <a:ext cx="1035720" cy="7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3413520" y="1477800"/>
              <a:ext cx="99360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4558680" y="1499040"/>
              <a:ext cx="995040" cy="735840"/>
            </a:xfrm>
            <a:prstGeom prst="rect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457720" y="1477800"/>
              <a:ext cx="99360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528000" y="3391200"/>
              <a:ext cx="99288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73240" y="3391200"/>
              <a:ext cx="99288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1389600" y="3391200"/>
              <a:ext cx="99504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322360" y="3391200"/>
              <a:ext cx="99504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416680" y="1456560"/>
              <a:ext cx="2032920" cy="778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3240" y="1456560"/>
              <a:ext cx="2064960" cy="778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28440" y="1435680"/>
              <a:ext cx="1055520" cy="83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200" y="3331080"/>
              <a:ext cx="1055520" cy="83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8560" y="3361320"/>
              <a:ext cx="2050920" cy="79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6400" y="3371400"/>
              <a:ext cx="2091600" cy="786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6400" y="1708920"/>
              <a:ext cx="82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#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1312920" y="1477800"/>
              <a:ext cx="99144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1"/>
            <a:stretch/>
          </p:blipFill>
          <p:spPr>
            <a:xfrm>
              <a:off x="325080" y="1477800"/>
              <a:ext cx="99288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2"/>
            <a:stretch/>
          </p:blipFill>
          <p:spPr>
            <a:xfrm>
              <a:off x="3378240" y="2431080"/>
              <a:ext cx="995040" cy="7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3"/>
            <a:stretch/>
          </p:blipFill>
          <p:spPr>
            <a:xfrm>
              <a:off x="4558680" y="2431080"/>
              <a:ext cx="995040" cy="7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4"/>
            <a:stretch/>
          </p:blipFill>
          <p:spPr>
            <a:xfrm>
              <a:off x="2385000" y="2431080"/>
              <a:ext cx="992880" cy="7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52000" y="2385000"/>
              <a:ext cx="1055520" cy="813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1160" y="2399040"/>
              <a:ext cx="3042360" cy="79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8880" y="2388600"/>
              <a:ext cx="1055520" cy="837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5"/>
            <a:stretch/>
          </p:blipFill>
          <p:spPr>
            <a:xfrm>
              <a:off x="273240" y="2431080"/>
              <a:ext cx="992880" cy="7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6"/>
            <a:stretch/>
          </p:blipFill>
          <p:spPr>
            <a:xfrm>
              <a:off x="1389600" y="2431080"/>
              <a:ext cx="995040" cy="7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V="1">
              <a:off x="4063680" y="4200840"/>
              <a:ext cx="434160" cy="245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9840" y="4251960"/>
              <a:ext cx="136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ws Sto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7"/>
            <a:stretch/>
          </p:blipFill>
          <p:spPr>
            <a:xfrm>
              <a:off x="1701000" y="4262760"/>
              <a:ext cx="868680" cy="6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V="1">
              <a:off x="2634120" y="4192200"/>
              <a:ext cx="492840" cy="2538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640" y="4223880"/>
              <a:ext cx="136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arch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82680" y="1299600"/>
              <a:ext cx="4395600" cy="2963160"/>
            </a:xfrm>
            <a:custGeom>
              <a:avLst/>
              <a:gdLst/>
              <a:ahLst/>
              <a:rect l="l" t="t" r="r" b="b"/>
              <a:pathLst>
                <a:path w="3470" h="2371">
                  <a:moveTo>
                    <a:pt x="76" y="813"/>
                  </a:moveTo>
                  <a:cubicBezTo>
                    <a:pt x="276" y="810"/>
                    <a:pt x="477" y="815"/>
                    <a:pt x="677" y="804"/>
                  </a:cubicBezTo>
                  <a:cubicBezTo>
                    <a:pt x="686" y="804"/>
                    <a:pt x="682" y="787"/>
                    <a:pt x="685" y="779"/>
                  </a:cubicBezTo>
                  <a:cubicBezTo>
                    <a:pt x="694" y="751"/>
                    <a:pt x="693" y="749"/>
                    <a:pt x="719" y="728"/>
                  </a:cubicBezTo>
                  <a:cubicBezTo>
                    <a:pt x="762" y="694"/>
                    <a:pt x="802" y="681"/>
                    <a:pt x="855" y="669"/>
                  </a:cubicBezTo>
                  <a:cubicBezTo>
                    <a:pt x="954" y="602"/>
                    <a:pt x="894" y="390"/>
                    <a:pt x="897" y="322"/>
                  </a:cubicBezTo>
                  <a:cubicBezTo>
                    <a:pt x="902" y="207"/>
                    <a:pt x="927" y="173"/>
                    <a:pt x="1007" y="93"/>
                  </a:cubicBezTo>
                  <a:cubicBezTo>
                    <a:pt x="1035" y="65"/>
                    <a:pt x="1068" y="31"/>
                    <a:pt x="1109" y="25"/>
                  </a:cubicBezTo>
                  <a:cubicBezTo>
                    <a:pt x="1184" y="13"/>
                    <a:pt x="1263" y="7"/>
                    <a:pt x="1338" y="0"/>
                  </a:cubicBezTo>
                  <a:cubicBezTo>
                    <a:pt x="1488" y="5"/>
                    <a:pt x="1623" y="13"/>
                    <a:pt x="1770" y="25"/>
                  </a:cubicBezTo>
                  <a:cubicBezTo>
                    <a:pt x="1969" y="97"/>
                    <a:pt x="2004" y="78"/>
                    <a:pt x="2286" y="84"/>
                  </a:cubicBezTo>
                  <a:cubicBezTo>
                    <a:pt x="2320" y="106"/>
                    <a:pt x="2343" y="134"/>
                    <a:pt x="2380" y="152"/>
                  </a:cubicBezTo>
                  <a:cubicBezTo>
                    <a:pt x="2427" y="224"/>
                    <a:pt x="2445" y="301"/>
                    <a:pt x="2473" y="381"/>
                  </a:cubicBezTo>
                  <a:cubicBezTo>
                    <a:pt x="2468" y="649"/>
                    <a:pt x="2457" y="867"/>
                    <a:pt x="2447" y="1126"/>
                  </a:cubicBezTo>
                  <a:cubicBezTo>
                    <a:pt x="2449" y="1175"/>
                    <a:pt x="2399" y="1428"/>
                    <a:pt x="2515" y="1465"/>
                  </a:cubicBezTo>
                  <a:cubicBezTo>
                    <a:pt x="2582" y="1568"/>
                    <a:pt x="2813" y="1538"/>
                    <a:pt x="2888" y="1541"/>
                  </a:cubicBezTo>
                  <a:cubicBezTo>
                    <a:pt x="2939" y="1543"/>
                    <a:pt x="2989" y="1547"/>
                    <a:pt x="3040" y="1550"/>
                  </a:cubicBezTo>
                  <a:cubicBezTo>
                    <a:pt x="3077" y="1561"/>
                    <a:pt x="3113" y="1574"/>
                    <a:pt x="3150" y="1584"/>
                  </a:cubicBezTo>
                  <a:cubicBezTo>
                    <a:pt x="3182" y="1608"/>
                    <a:pt x="3197" y="1640"/>
                    <a:pt x="3227" y="1660"/>
                  </a:cubicBezTo>
                  <a:cubicBezTo>
                    <a:pt x="3254" y="1677"/>
                    <a:pt x="3299" y="1678"/>
                    <a:pt x="3328" y="1685"/>
                  </a:cubicBezTo>
                  <a:cubicBezTo>
                    <a:pt x="3365" y="1694"/>
                    <a:pt x="3398" y="1717"/>
                    <a:pt x="3430" y="1736"/>
                  </a:cubicBezTo>
                  <a:cubicBezTo>
                    <a:pt x="3433" y="1773"/>
                    <a:pt x="3438" y="1809"/>
                    <a:pt x="3438" y="1846"/>
                  </a:cubicBezTo>
                  <a:cubicBezTo>
                    <a:pt x="3438" y="1946"/>
                    <a:pt x="3470" y="2260"/>
                    <a:pt x="3303" y="2304"/>
                  </a:cubicBezTo>
                  <a:cubicBezTo>
                    <a:pt x="3263" y="2330"/>
                    <a:pt x="3221" y="2340"/>
                    <a:pt x="3176" y="2355"/>
                  </a:cubicBezTo>
                  <a:cubicBezTo>
                    <a:pt x="3159" y="2361"/>
                    <a:pt x="3125" y="2371"/>
                    <a:pt x="3125" y="2371"/>
                  </a:cubicBezTo>
                  <a:cubicBezTo>
                    <a:pt x="3043" y="2368"/>
                    <a:pt x="2961" y="2368"/>
                    <a:pt x="2879" y="2363"/>
                  </a:cubicBezTo>
                  <a:cubicBezTo>
                    <a:pt x="2821" y="2360"/>
                    <a:pt x="2759" y="2338"/>
                    <a:pt x="2701" y="2329"/>
                  </a:cubicBezTo>
                  <a:cubicBezTo>
                    <a:pt x="2622" y="2288"/>
                    <a:pt x="2519" y="2284"/>
                    <a:pt x="2430" y="2270"/>
                  </a:cubicBezTo>
                  <a:cubicBezTo>
                    <a:pt x="2363" y="2236"/>
                    <a:pt x="2283" y="2229"/>
                    <a:pt x="2210" y="2211"/>
                  </a:cubicBezTo>
                  <a:cubicBezTo>
                    <a:pt x="2136" y="2192"/>
                    <a:pt x="2238" y="2214"/>
                    <a:pt x="2159" y="2185"/>
                  </a:cubicBezTo>
                  <a:cubicBezTo>
                    <a:pt x="2107" y="2166"/>
                    <a:pt x="2044" y="2169"/>
                    <a:pt x="1990" y="2160"/>
                  </a:cubicBezTo>
                  <a:cubicBezTo>
                    <a:pt x="1956" y="2149"/>
                    <a:pt x="1922" y="2137"/>
                    <a:pt x="1888" y="2126"/>
                  </a:cubicBezTo>
                  <a:cubicBezTo>
                    <a:pt x="1877" y="2109"/>
                    <a:pt x="1865" y="2092"/>
                    <a:pt x="1854" y="2075"/>
                  </a:cubicBezTo>
                  <a:cubicBezTo>
                    <a:pt x="1832" y="2043"/>
                    <a:pt x="1835" y="1999"/>
                    <a:pt x="1812" y="1965"/>
                  </a:cubicBezTo>
                  <a:cubicBezTo>
                    <a:pt x="1798" y="1920"/>
                    <a:pt x="1778" y="1887"/>
                    <a:pt x="1744" y="1855"/>
                  </a:cubicBezTo>
                  <a:cubicBezTo>
                    <a:pt x="1731" y="1813"/>
                    <a:pt x="1716" y="1776"/>
                    <a:pt x="1685" y="1745"/>
                  </a:cubicBezTo>
                  <a:cubicBezTo>
                    <a:pt x="1668" y="1680"/>
                    <a:pt x="1617" y="1597"/>
                    <a:pt x="1549" y="1575"/>
                  </a:cubicBezTo>
                  <a:cubicBezTo>
                    <a:pt x="1524" y="1567"/>
                    <a:pt x="1498" y="1565"/>
                    <a:pt x="1473" y="1558"/>
                  </a:cubicBezTo>
                  <a:cubicBezTo>
                    <a:pt x="1407" y="1513"/>
                    <a:pt x="1223" y="1526"/>
                    <a:pt x="1168" y="1524"/>
                  </a:cubicBezTo>
                  <a:cubicBezTo>
                    <a:pt x="1089" y="1521"/>
                    <a:pt x="1010" y="1519"/>
                    <a:pt x="931" y="1516"/>
                  </a:cubicBezTo>
                  <a:cubicBezTo>
                    <a:pt x="858" y="1513"/>
                    <a:pt x="784" y="1510"/>
                    <a:pt x="711" y="1507"/>
                  </a:cubicBezTo>
                  <a:cubicBezTo>
                    <a:pt x="635" y="1500"/>
                    <a:pt x="567" y="1482"/>
                    <a:pt x="491" y="1474"/>
                  </a:cubicBezTo>
                  <a:cubicBezTo>
                    <a:pt x="379" y="1444"/>
                    <a:pt x="271" y="1406"/>
                    <a:pt x="160" y="1372"/>
                  </a:cubicBezTo>
                  <a:cubicBezTo>
                    <a:pt x="118" y="1343"/>
                    <a:pt x="141" y="1364"/>
                    <a:pt x="101" y="1304"/>
                  </a:cubicBezTo>
                  <a:cubicBezTo>
                    <a:pt x="95" y="1296"/>
                    <a:pt x="84" y="1279"/>
                    <a:pt x="84" y="1279"/>
                  </a:cubicBezTo>
                  <a:cubicBezTo>
                    <a:pt x="62" y="1208"/>
                    <a:pt x="39" y="1140"/>
                    <a:pt x="25" y="1067"/>
                  </a:cubicBezTo>
                  <a:cubicBezTo>
                    <a:pt x="29" y="973"/>
                    <a:pt x="0" y="848"/>
                    <a:pt x="109" y="813"/>
                  </a:cubicBezTo>
                  <a:cubicBezTo>
                    <a:pt x="140" y="793"/>
                    <a:pt x="125" y="796"/>
                    <a:pt x="152" y="79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30400" y="3055680"/>
              <a:ext cx="199440" cy="4374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1640" y="2123640"/>
              <a:ext cx="28440" cy="42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04880" y="831960"/>
              <a:ext cx="2335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ws Video Sourc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8"/>
            <a:stretch/>
          </p:blipFill>
          <p:spPr>
            <a:xfrm>
              <a:off x="673920" y="4919040"/>
              <a:ext cx="727920" cy="7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9"/>
            <a:stretch/>
          </p:blipFill>
          <p:spPr>
            <a:xfrm>
              <a:off x="3315960" y="4924800"/>
              <a:ext cx="863280" cy="7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637960" y="2457360"/>
              <a:ext cx="82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#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7960" y="3403080"/>
              <a:ext cx="82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#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345360" y="1285920"/>
            <a:ext cx="255744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61280" indent="-16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hread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-1612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ssentially an unsupervised discovery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-1612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well defined evaluation it is hard to assess algorithm performance or design or modify algorithms to perform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 of the Exploratory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1000" y="988560"/>
            <a:ext cx="8296200" cy="524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-168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a ground truth for threads using multiple broadcast news channel videos with coinciding time fr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a metric for evaluating multimodal thread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or adapt NIST TDT (text-based) evaluation including cluster-&gt;thread mapping and evaluation 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Detection an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1174320"/>
            <a:ext cx="745200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nist.gov/speech/tests/tdt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965840" y="2181240"/>
            <a:ext cx="3752640" cy="205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0600" y="4906800"/>
            <a:ext cx="8192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Story Segmentati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- Detect changes between topically cohesive s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Topic Trackin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- Keep track of stories similar to a set of example sto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Topic Detecti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- Build clusters of stories that discuss the same top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First Story Detecti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- Detect if a story is the first story of a new, unknown top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9"/>
              </a:rPr>
              <a:t>Link Detecti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- Detect whether or not two stories are topically lin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2355840"/>
            <a:ext cx="4181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DT research develops algorithms f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overing and threading together topically related mater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streams of </a:t>
            </a: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ch as newswire and broadcast news in both English and Mandarin Chinese.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DT tas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89480" y="4307040"/>
            <a:ext cx="32623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ly data={tex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nd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6480" y="1152360"/>
          <a:ext cx="7520040" cy="465768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0960"/>
                <a:gridCol w="750600"/>
                <a:gridCol w="754200"/>
                <a:gridCol w="752400"/>
                <a:gridCol w="750960"/>
                <a:gridCol w="750960"/>
                <a:gridCol w="752400"/>
                <a:gridCol w="752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451320" y="878040"/>
            <a:ext cx="1120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32080" y="6192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-245520" y="185760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720" y="2550960"/>
            <a:ext cx="0" cy="8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79640" y="5969160"/>
            <a:ext cx="6023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&gt;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tory can belong to multiple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1520"/>
            <a:ext cx="86774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sume that story boundary detection is perf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23760" y="1292400"/>
          <a:ext cx="7520040" cy="465768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0960"/>
                <a:gridCol w="750600"/>
                <a:gridCol w="754200"/>
                <a:gridCol w="752400"/>
                <a:gridCol w="750960"/>
                <a:gridCol w="750960"/>
                <a:gridCol w="752400"/>
                <a:gridCol w="752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468600" y="1017720"/>
            <a:ext cx="11210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9360" y="75888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-228240" y="199728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360" y="2690640"/>
            <a:ext cx="0" cy="8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33640" y="6002280"/>
            <a:ext cx="5469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&lt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tory can belong to multiple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9200" y="101520"/>
            <a:ext cx="823788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23720" y="870120"/>
            <a:ext cx="829656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Clusters to Threads based on number of commonly occurring sto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how much overlap there is between the two using a cooccurrence matrix and compute error (in terms of splitting of stories from a thread into multiple clusters and merging of stories from different threads into a single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93680" y="2406600"/>
          <a:ext cx="6950160" cy="3622680"/>
        </p:xfrm>
        <a:graphic>
          <a:graphicData uri="http://schemas.openxmlformats.org/drawingml/2006/table">
            <a:tbl>
              <a:tblPr/>
              <a:tblGrid>
                <a:gridCol w="695520"/>
                <a:gridCol w="696960"/>
                <a:gridCol w="691920"/>
                <a:gridCol w="693720"/>
                <a:gridCol w="696960"/>
                <a:gridCol w="696960"/>
                <a:gridCol w="693720"/>
                <a:gridCol w="692280"/>
                <a:gridCol w="696960"/>
                <a:gridCol w="695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794040" y="2190600"/>
            <a:ext cx="10368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11240" y="19321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-183960" y="3565440"/>
            <a:ext cx="11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7800" y="3498840"/>
            <a:ext cx="1800" cy="69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5:26:22Z</dcterms:created>
  <dc:creator>hmb</dc:creator>
  <dc:description/>
  <dc:language>en-US</dc:language>
  <cp:lastModifiedBy>MRN</cp:lastModifiedBy>
  <cp:lastPrinted>2001-09-17T19:10:45Z</cp:lastPrinted>
  <dcterms:modified xsi:type="dcterms:W3CDTF">2004-06-17T21:25:04Z</dcterms:modified>
  <cp:revision>344</cp:revision>
  <dc:subject>Project Overview</dc:subject>
  <dc:title>ARDA AQUAINT</dc:title>
</cp:coreProperties>
</file>