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png" ContentType="image/png"/>
  <Override PartName="/ppt/media/image5.wmf" ContentType="image/x-wmf"/>
  <Override PartName="/ppt/media/image7.png" ContentType="image/png"/>
  <Override PartName="/ppt/media/image12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39B-0005-471F-A1FC-E6408276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1969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3AE-EB21-457C-A897-74B37422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1969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73C-75C0-4DD3-93C1-46F5CD2C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1969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AAC-FCAB-43DF-B86A-8580A8C4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1969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8F7-73ED-43D6-AD66-7103FA0C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969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F4C-77DD-4201-9312-6E4D1C3F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1969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32C-50FA-4F0A-8C4B-056512DA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1969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0F4-912E-4372-AC61-2AE50DE9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228600"/>
            <a:ext cx="8001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CF4-D676-49E7-92E1-024307E4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1969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755-80E3-4A24-9308-63DA0D4D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1969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055-C815-42F4-A815-604E7C6A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1969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DB3-CFEF-4480-83F2-8AFC5897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16524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25520" indent="-22392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62120" indent="-222120">
              <a:spcBef>
                <a:spcPts val="601"/>
              </a:spcBef>
              <a:buClr>
                <a:srgbClr val="ff0000"/>
              </a:buClr>
              <a:buFont typeface="Arial"/>
              <a:buChar char="»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62120" indent="-2221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62120" indent="-2221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269280" y="655308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166B-E337-4980-93E7-5618AA9A3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91520" y="6553080"/>
            <a:ext cx="1218960" cy="3049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610480" y="6553080"/>
            <a:ext cx="533520" cy="3049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533520" y="838080"/>
            <a:ext cx="8001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33520" y="762120"/>
            <a:ext cx="8001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22120" y="1772640"/>
            <a:ext cx="6933960" cy="18597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cc99"/>
            </a:solidFill>
            <a:miter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-lingual Video OCR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BN: John Makhoul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 Nataraj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I: Greg My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98480" y="4712760"/>
            <a:ext cx="5648400" cy="831960"/>
          </a:xfrm>
          <a:prstGeom prst="rect">
            <a:avLst/>
          </a:prstGeom>
          <a:solidFill>
            <a:srgbClr val="ffeddd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DA VACE Phase II Kick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 November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MM-based OC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009440"/>
            <a:ext cx="79246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based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able: model parameters directly estimated from training dat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ipt-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allows for cursive scripts implicit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ed to paper documents in English, Arabic, Chinese, Pashto, Fars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imited vocabulary recognition using character HM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tion paradigm allows integrated use of language model and observation model (character HM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tion Paradig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= Observation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= Output sequ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gnition Problem:  Find the output sequence W that maximizes P(W|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P(X) is independent of the models, maximizing P(W|X) can be performed by maximizing P(W) P(X|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15480" y="3429000"/>
            <a:ext cx="4514400" cy="1530000"/>
            <a:chOff x="915480" y="3429000"/>
            <a:chExt cx="4514400" cy="1530000"/>
          </a:xfrm>
        </p:grpSpPr>
        <p:sp>
          <p:nvSpPr>
            <p:cNvPr id="93" name=""/>
            <p:cNvSpPr/>
            <p:nvPr/>
          </p:nvSpPr>
          <p:spPr>
            <a:xfrm>
              <a:off x="2107080" y="4161240"/>
              <a:ext cx="1422360" cy="7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3840" bIns="33840" anchor="t">
              <a:spAutoFit/>
            </a:bodyPr>
            <a:p>
              <a:pPr>
                <a:lnSpc>
                  <a:spcPts val="2373"/>
                </a:lnSpc>
                <a:spcBef>
                  <a:spcPts val="1001"/>
                </a:spcBef>
                <a:tabLst>
                  <a:tab algn="l" pos="0"/>
                  <a:tab algn="l" pos="833400"/>
                  <a:tab algn="l" pos="1666800"/>
                  <a:tab algn="l" pos="2500200"/>
                  <a:tab algn="l" pos="3333600"/>
                  <a:tab algn="l" pos="4167360"/>
                  <a:tab algn="l" pos="5000760"/>
                  <a:tab algn="l" pos="5834160"/>
                  <a:tab algn="l" pos="6667560"/>
                  <a:tab algn="l" pos="7500960"/>
                  <a:tab algn="l" pos="8334360"/>
                  <a:tab algn="l" pos="9167760"/>
                  <a:tab algn="l" pos="10001160"/>
                  <a:tab algn="l" pos="10834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(W)  P(X|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373"/>
                </a:lnSpc>
                <a:spcBef>
                  <a:spcPts val="1001"/>
                </a:spcBef>
                <a:tabLst>
                  <a:tab algn="l" pos="0"/>
                  <a:tab algn="l" pos="833400"/>
                  <a:tab algn="l" pos="1666800"/>
                  <a:tab algn="l" pos="2500200"/>
                  <a:tab algn="l" pos="3333600"/>
                  <a:tab algn="l" pos="4167360"/>
                  <a:tab algn="l" pos="5000760"/>
                  <a:tab algn="l" pos="5834160"/>
                  <a:tab algn="l" pos="6667560"/>
                  <a:tab algn="l" pos="7500960"/>
                  <a:tab algn="l" pos="8334360"/>
                  <a:tab algn="l" pos="9167760"/>
                  <a:tab algn="l" pos="10001160"/>
                  <a:tab algn="l" pos="10834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77480" y="4561920"/>
              <a:ext cx="187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5480" y="4349880"/>
              <a:ext cx="10231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3840" bIns="33840" anchor="t">
              <a:spAutoFit/>
            </a:bodyPr>
            <a:p>
              <a:pPr>
                <a:lnSpc>
                  <a:spcPts val="2373"/>
                </a:lnSpc>
                <a:spcBef>
                  <a:spcPts val="1001"/>
                </a:spcBef>
                <a:tabLst>
                  <a:tab algn="l" pos="0"/>
                  <a:tab algn="l" pos="833400"/>
                  <a:tab algn="l" pos="1666800"/>
                  <a:tab algn="l" pos="2500200"/>
                  <a:tab algn="l" pos="3333600"/>
                  <a:tab algn="l" pos="4167360"/>
                  <a:tab algn="l" pos="5000760"/>
                  <a:tab algn="l" pos="5834160"/>
                  <a:tab algn="l" pos="6667560"/>
                  <a:tab algn="l" pos="7500960"/>
                  <a:tab algn="l" pos="8334360"/>
                  <a:tab algn="l" pos="9167760"/>
                  <a:tab algn="l" pos="10001160"/>
                  <a:tab algn="l" pos="10834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(W|X) 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5080" y="3429000"/>
              <a:ext cx="44748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3840" bIns="33840" anchor="t">
              <a:spAutoFit/>
            </a:bodyPr>
            <a:p>
              <a:pPr>
                <a:lnSpc>
                  <a:spcPts val="2373"/>
                </a:lnSpc>
                <a:spcBef>
                  <a:spcPts val="1001"/>
                </a:spcBef>
                <a:tabLst>
                  <a:tab algn="l" pos="0"/>
                  <a:tab algn="l" pos="833400"/>
                  <a:tab algn="l" pos="1666800"/>
                  <a:tab algn="l" pos="2500200"/>
                  <a:tab algn="l" pos="3333600"/>
                  <a:tab algn="l" pos="4167360"/>
                  <a:tab algn="l" pos="5000760"/>
                  <a:tab algn="l" pos="5834160"/>
                  <a:tab algn="l" pos="6667560"/>
                  <a:tab algn="l" pos="7500960"/>
                  <a:tab algn="l" pos="8334360"/>
                  <a:tab algn="l" pos="9167760"/>
                  <a:tab algn="l" pos="10001160"/>
                  <a:tab algn="l" pos="1083456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Language model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Observation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81000" y="3760560"/>
              <a:ext cx="595080" cy="45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083400" y="3760560"/>
              <a:ext cx="64152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Mode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W) = P(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. . 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-gram Gramma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W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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(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| 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-gram Gramma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W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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(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| 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-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Model: Using HMMs for OC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MMs can model a feature vector as a function of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dependent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OCR is fundamentally a 2D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convert the 2D problem into a series of 1D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 Find text line images and process each line of text separat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942840"/>
            <a:ext cx="6172200" cy="38577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-based Feature Extr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495680"/>
            <a:ext cx="7045200" cy="17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3040" bIns="23040" anchor="t">
            <a:spAutoFit/>
          </a:bodyPr>
          <a:p>
            <a:pPr marL="208080" indent="-208080">
              <a:lnSpc>
                <a:spcPct val="122000"/>
              </a:lnSpc>
              <a:spcBef>
                <a:spcPts val="1363"/>
              </a:spcBef>
              <a:buClr>
                <a:srgbClr val="ff0000"/>
              </a:buClr>
              <a:buSzPct val="125000"/>
              <a:buFont typeface="Helvetica"/>
              <a:buChar char="•"/>
              <a:tabLst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 line tops and bott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22000"/>
              </a:lnSpc>
              <a:spcBef>
                <a:spcPts val="1363"/>
              </a:spcBef>
              <a:buClr>
                <a:srgbClr val="ff0000"/>
              </a:buClr>
              <a:buSzPct val="125000"/>
              <a:buFont typeface="Helvetica"/>
              <a:buChar char="•"/>
              <a:tabLst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 narrow overlapping vertical slices of the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22000"/>
              </a:lnSpc>
              <a:spcBef>
                <a:spcPts val="1363"/>
              </a:spcBef>
              <a:buClr>
                <a:srgbClr val="ff0000"/>
              </a:buClr>
              <a:buSzPct val="125000"/>
              <a:buFont typeface="Helvetica"/>
              <a:buChar char="•"/>
              <a:tabLst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 script-independent features on each slice as input to H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510000"/>
            <a:ext cx="1143000" cy="29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63de8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4119480"/>
            <a:ext cx="15951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63de8"/>
                </a:solidFill>
                <a:latin typeface="Arial"/>
              </a:rPr>
              <a:t>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58920" y="3946320"/>
            <a:ext cx="8223120" cy="20520"/>
          </a:xfrm>
          <a:prstGeom prst="line">
            <a:avLst/>
          </a:prstGeom>
          <a:ln w="50760">
            <a:solidFill>
              <a:srgbClr val="063de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55920" y="4971960"/>
            <a:ext cx="1200240" cy="660600"/>
          </a:xfrm>
          <a:prstGeom prst="rect">
            <a:avLst/>
          </a:prstGeom>
          <a:solidFill>
            <a:srgbClr val="fda4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07240" y="3659040"/>
            <a:ext cx="1625400" cy="608040"/>
          </a:xfrm>
          <a:prstGeom prst="ellipse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72120" y="1617840"/>
            <a:ext cx="1238400" cy="649080"/>
          </a:xfrm>
          <a:prstGeom prst="rect">
            <a:avLst/>
          </a:prstGeom>
          <a:solidFill>
            <a:srgbClr val="fda4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17840"/>
            <a:ext cx="1201680" cy="984240"/>
          </a:xfrm>
          <a:prstGeom prst="rect">
            <a:avLst/>
          </a:prstGeom>
          <a:solidFill>
            <a:srgbClr val="fda4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17880" y="1619280"/>
            <a:ext cx="1617480" cy="739800"/>
          </a:xfrm>
          <a:prstGeom prst="rect">
            <a:avLst/>
          </a:prstGeom>
          <a:solidFill>
            <a:srgbClr val="fda4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9760" y="1666800"/>
            <a:ext cx="639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0880" y="1503360"/>
            <a:ext cx="1634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14720" y="1663560"/>
            <a:ext cx="12888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98120" y="1895400"/>
            <a:ext cx="931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36680" y="1663560"/>
            <a:ext cx="5018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0840" y="1996920"/>
            <a:ext cx="1215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ining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4080" y="2490840"/>
            <a:ext cx="1224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ound Tru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89400" y="5118120"/>
            <a:ext cx="11001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95520" y="5079960"/>
            <a:ext cx="11145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18440" y="5089680"/>
            <a:ext cx="940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62200" y="3763800"/>
            <a:ext cx="972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xicon +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200" y="5068800"/>
            <a:ext cx="7506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25120" y="4830840"/>
            <a:ext cx="1634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12280" y="5261040"/>
            <a:ext cx="1634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1320" y="1731960"/>
            <a:ext cx="940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59360" y="3659040"/>
            <a:ext cx="1627200" cy="608040"/>
          </a:xfrm>
          <a:prstGeom prst="ellipse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29800" y="3732120"/>
            <a:ext cx="931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49920" y="263376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70160" y="3659040"/>
            <a:ext cx="1627200" cy="608040"/>
          </a:xfrm>
          <a:prstGeom prst="ellipse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5040" y="3772080"/>
            <a:ext cx="1206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rthograph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88840" y="1949400"/>
            <a:ext cx="120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63800" y="1949400"/>
            <a:ext cx="484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313400" y="1949400"/>
            <a:ext cx="1028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8040" y="2476440"/>
            <a:ext cx="3359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7160" y="2297160"/>
            <a:ext cx="0" cy="13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952520" y="2611080"/>
            <a:ext cx="1397160" cy="1063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036960" y="2611440"/>
            <a:ext cx="1708200" cy="1030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54040" y="527832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36960" y="4292640"/>
            <a:ext cx="0" cy="660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13320" y="5289480"/>
            <a:ext cx="6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72000" y="5289480"/>
            <a:ext cx="959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36960" y="4292640"/>
            <a:ext cx="1662120" cy="660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963680" y="4257720"/>
            <a:ext cx="1397160" cy="695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32640" y="1698480"/>
            <a:ext cx="16081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eprocess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eature Extra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13120" y="4919760"/>
            <a:ext cx="1617480" cy="739800"/>
          </a:xfrm>
          <a:prstGeom prst="rect">
            <a:avLst/>
          </a:prstGeom>
          <a:solidFill>
            <a:srgbClr val="fda4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28960" y="5103720"/>
            <a:ext cx="1290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17080" y="5002200"/>
            <a:ext cx="16081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eprocess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eature Extra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BN Byblos OCR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mited Vocabulary Word-based Recog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4724280"/>
            <a:ext cx="7924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1400" bIns="41400" anchor="t">
            <a:noAutofit/>
          </a:bodyPr>
          <a:p>
            <a:pPr marL="223920" indent="-223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character recog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most likely word sequence using the lexicon and the confusion matrix, while allowing for new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al additional step: Use N-best word sequences and score against the original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828800" y="351000"/>
          <a:ext cx="617220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51000"/>
                    <a:ext cx="61722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Novel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upervised adaptation for continuous lear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ally learns from new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vised adaptation for corrective lear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nalyst feedback to improve recognition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-time feature-space adap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blos OCR recognizer uses two-pass search for efficient recognition: use between-pass adaptation to improve speed and accuracy of backward p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 Ext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new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lore usefulness of subspace projections (e.g. Heteroscedastic Linear Discriminant Analysi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9356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text that persists in the video is slightly different in each frame, combining information from multiple frames should increase accuracy of the recognized 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lti-frame integration at 3 different level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ix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the temporal contiguity of videotext will be exploited by combining pixel information from multiple video frames to form a single composite ima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-frame analysis combines results at the OC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ymbol lev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by using a Bayesian error model for the multilingual OCR engi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eature-lev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ulti-frame integration involves extracting features directly from gray-scale image data, approximately aligning and subsequently combining these features and hypotheses across multiple fram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880" y="1285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frame Techniques for Improved Recog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1231920"/>
            <a:ext cx="76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ix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multiple video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895480" y="3211560"/>
            <a:ext cx="609840" cy="363600"/>
          </a:xfrm>
          <a:prstGeom prst="leftArrow">
            <a:avLst>
              <a:gd name="adj1" fmla="val 50000"/>
              <a:gd name="adj2" fmla="val 41931"/>
            </a:avLst>
          </a:prstGeom>
          <a:noFill/>
          <a:ln w="255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Frame Integration: Pixel-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960" y="3468600"/>
            <a:ext cx="2171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867280" y="3201840"/>
            <a:ext cx="609840" cy="363600"/>
          </a:xfrm>
          <a:prstGeom prst="leftArrow">
            <a:avLst>
              <a:gd name="adj1" fmla="val 50000"/>
              <a:gd name="adj2" fmla="val 41931"/>
            </a:avLst>
          </a:prstGeom>
          <a:noFill/>
          <a:ln w="255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47840" y="2508120"/>
            <a:ext cx="2371680" cy="1774800"/>
            <a:chOff x="447840" y="2508120"/>
            <a:chExt cx="2371680" cy="1774800"/>
          </a:xfrm>
        </p:grpSpPr>
        <p:sp>
          <p:nvSpPr>
            <p:cNvPr id="167" name=""/>
            <p:cNvSpPr/>
            <p:nvPr/>
          </p:nvSpPr>
          <p:spPr>
            <a:xfrm>
              <a:off x="447840" y="2508120"/>
              <a:ext cx="2371680" cy="1774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63760" y="3031920"/>
              <a:ext cx="213984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63760" y="3031920"/>
              <a:ext cx="2139840" cy="2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574560" y="2597040"/>
              <a:ext cx="214020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563760" y="2597040"/>
              <a:ext cx="2139840" cy="25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563760" y="3901680"/>
              <a:ext cx="2139840" cy="2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63760" y="3901680"/>
              <a:ext cx="2139840" cy="2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63760" y="3466800"/>
              <a:ext cx="213984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63760" y="3466800"/>
              <a:ext cx="2139840" cy="2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3556080" y="3278160"/>
            <a:ext cx="2209680" cy="252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555240" y="31971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N CALLE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040" y="438768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ies of text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08840" y="437364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 binarized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3880" y="4373640"/>
            <a:ext cx="13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R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46440" y="365904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620120" y="365904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55627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5CF-98A5-45A9-9976-9CC84B85BB7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3809880"/>
            <a:ext cx="8229600" cy="266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914400"/>
            <a:ext cx="8229600" cy="259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eo-text OC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200400" cy="247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38280" y="3924360"/>
            <a:ext cx="320040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62520" y="990720"/>
            <a:ext cx="4809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 CRU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 2 – 39     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هيئة الدبلوماسية المغر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© O.A. Brekke 2000        15 8 `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14640" y="415296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more time in hospital for antidepressants …to work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3520" y="1219320"/>
            <a:ext cx="7600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CR resul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multiple video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Frame Integration: Symbol-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971080" y="3132000"/>
            <a:ext cx="609480" cy="363600"/>
          </a:xfrm>
          <a:prstGeom prst="leftArrow">
            <a:avLst>
              <a:gd name="adj1" fmla="val 50000"/>
              <a:gd name="adj2" fmla="val 41906"/>
            </a:avLst>
          </a:prstGeom>
          <a:noFill/>
          <a:ln w="255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2880" y="3119400"/>
            <a:ext cx="609480" cy="363600"/>
          </a:xfrm>
          <a:prstGeom prst="leftArrow">
            <a:avLst>
              <a:gd name="adj1" fmla="val 50000"/>
              <a:gd name="adj2" fmla="val 41906"/>
            </a:avLst>
          </a:prstGeom>
          <a:noFill/>
          <a:ln w="255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2500200"/>
            <a:ext cx="1981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 CALLE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7200" y="2424240"/>
            <a:ext cx="2371680" cy="1774800"/>
            <a:chOff x="457200" y="2424240"/>
            <a:chExt cx="2371680" cy="1774800"/>
          </a:xfrm>
        </p:grpSpPr>
        <p:sp>
          <p:nvSpPr>
            <p:cNvPr id="190" name=""/>
            <p:cNvSpPr/>
            <p:nvPr/>
          </p:nvSpPr>
          <p:spPr>
            <a:xfrm>
              <a:off x="457200" y="2424240"/>
              <a:ext cx="2371680" cy="1774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573120" y="2948040"/>
              <a:ext cx="213984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73120" y="2948040"/>
              <a:ext cx="2139840" cy="2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583920" y="2513160"/>
              <a:ext cx="214020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73120" y="2513160"/>
              <a:ext cx="2139840" cy="25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573120" y="3817800"/>
              <a:ext cx="2139840" cy="2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73120" y="3817800"/>
              <a:ext cx="2139840" cy="2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4"/>
            <a:stretch/>
          </p:blipFill>
          <p:spPr>
            <a:xfrm>
              <a:off x="573120" y="3382920"/>
              <a:ext cx="213984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73120" y="3382920"/>
              <a:ext cx="2139840" cy="2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257800" y="55627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957400"/>
            <a:ext cx="1981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N CAHE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414600"/>
            <a:ext cx="1981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N CALIE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3871800"/>
            <a:ext cx="1981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N CALL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07880" y="31305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N CALLE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9680" y="446400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ies of text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15400" y="4464000"/>
            <a:ext cx="22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ies of OCR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83400" y="4464000"/>
            <a:ext cx="19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 OCR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8CD-9536-427A-A727-A39762C004A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Frame Integration: Feature-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95360" y="1469880"/>
          <a:ext cx="5740200" cy="49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69880"/>
                    <a:ext cx="574020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6248520" y="1701720"/>
            <a:ext cx="28954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 collected over multiple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optimization step determines the best sequence of recognized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frame Integration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1640" y="121932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 stationary overlay text on time-varying backgro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 small scene text where binarization would yield unusable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eliminate complementary recognition errors from single-frame results that are mostly corr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6232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01720" y="1327320"/>
            <a:ext cx="604800" cy="419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66520" y="139860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h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05400" y="15382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55880" y="1327320"/>
            <a:ext cx="736560" cy="419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90960" y="1468440"/>
            <a:ext cx="25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89240" y="1536840"/>
            <a:ext cx="204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85800" y="1498680"/>
            <a:ext cx="115920" cy="75960"/>
          </a:xfrm>
          <a:custGeom>
            <a:avLst/>
            <a:gdLst/>
            <a:ahLst/>
            <a:rect l="l" t="t" r="r" b="b"/>
            <a:pathLst>
              <a:path w="147" h="95">
                <a:moveTo>
                  <a:pt x="0" y="0"/>
                </a:moveTo>
                <a:lnTo>
                  <a:pt x="147" y="47"/>
                </a:lnTo>
                <a:lnTo>
                  <a:pt x="0" y="9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1152000" y="1472040"/>
            <a:ext cx="268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24760" y="1824120"/>
            <a:ext cx="154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xel-level Agglom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06520" y="1536840"/>
            <a:ext cx="4431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39960" y="1498680"/>
            <a:ext cx="115920" cy="75960"/>
          </a:xfrm>
          <a:custGeom>
            <a:avLst/>
            <a:gdLst/>
            <a:ahLst/>
            <a:rect l="l" t="t" r="r" b="b"/>
            <a:pathLst>
              <a:path w="147" h="95">
                <a:moveTo>
                  <a:pt x="0" y="0"/>
                </a:moveTo>
                <a:lnTo>
                  <a:pt x="147" y="47"/>
                </a:lnTo>
                <a:lnTo>
                  <a:pt x="0" y="9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92440" y="1536840"/>
            <a:ext cx="176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57680" y="1498680"/>
            <a:ext cx="117360" cy="75960"/>
          </a:xfrm>
          <a:custGeom>
            <a:avLst/>
            <a:gdLst/>
            <a:ahLst/>
            <a:rect l="l" t="t" r="r" b="b"/>
            <a:pathLst>
              <a:path w="147" h="95">
                <a:moveTo>
                  <a:pt x="0" y="0"/>
                </a:moveTo>
                <a:lnTo>
                  <a:pt x="147" y="47"/>
                </a:lnTo>
                <a:lnTo>
                  <a:pt x="0" y="9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84600" y="136512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C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72720" y="1579680"/>
            <a:ext cx="259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215000" y="4572000"/>
            <a:ext cx="2732040" cy="1768680"/>
            <a:chOff x="1215000" y="4572000"/>
            <a:chExt cx="2732040" cy="1768680"/>
          </a:xfrm>
        </p:grpSpPr>
        <p:sp>
          <p:nvSpPr>
            <p:cNvPr id="230" name=""/>
            <p:cNvSpPr/>
            <p:nvPr/>
          </p:nvSpPr>
          <p:spPr>
            <a:xfrm>
              <a:off x="1714680" y="4572000"/>
              <a:ext cx="612720" cy="431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87480" y="471960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C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98480" y="5651280"/>
              <a:ext cx="681120" cy="433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06560" y="579888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C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67040" y="4572000"/>
              <a:ext cx="744480" cy="1512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97720" y="5119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b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05000" y="525924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C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08520" y="5398920"/>
              <a:ext cx="44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ymbol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16240" y="4787640"/>
              <a:ext cx="1918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98760" y="4751280"/>
              <a:ext cx="115920" cy="74520"/>
            </a:xfrm>
            <a:custGeom>
              <a:avLst/>
              <a:gdLst/>
              <a:ahLst/>
              <a:rect l="l" t="t" r="r" b="b"/>
              <a:pathLst>
                <a:path w="147" h="95">
                  <a:moveTo>
                    <a:pt x="0" y="0"/>
                  </a:moveTo>
                  <a:lnTo>
                    <a:pt x="147" y="48"/>
                  </a:lnTo>
                  <a:lnTo>
                    <a:pt x="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5400000">
              <a:off x="1158120" y="4726080"/>
              <a:ext cx="22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14440" y="5867280"/>
              <a:ext cx="190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5520" y="5829120"/>
              <a:ext cx="115920" cy="76320"/>
            </a:xfrm>
            <a:custGeom>
              <a:avLst/>
              <a:gdLst/>
              <a:ahLst/>
              <a:rect l="l" t="t" r="r" b="b"/>
              <a:pathLst>
                <a:path w="147" h="95">
                  <a:moveTo>
                    <a:pt x="0" y="0"/>
                  </a:moveTo>
                  <a:lnTo>
                    <a:pt x="147" y="48"/>
                  </a:lnTo>
                  <a:lnTo>
                    <a:pt x="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1155960" y="5805360"/>
              <a:ext cx="22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39960" y="5111640"/>
              <a:ext cx="1440" cy="2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39960" y="5167080"/>
              <a:ext cx="1440" cy="28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39960" y="5381640"/>
              <a:ext cx="1440" cy="2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39960" y="5438520"/>
              <a:ext cx="1440" cy="27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03560" y="5111640"/>
              <a:ext cx="1440" cy="2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03560" y="5167080"/>
              <a:ext cx="1440" cy="28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3560" y="5381640"/>
              <a:ext cx="1440" cy="2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03560" y="5438520"/>
              <a:ext cx="1440" cy="27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85880" y="5111640"/>
              <a:ext cx="1800" cy="2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85880" y="5167080"/>
              <a:ext cx="1800" cy="28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85880" y="5381640"/>
              <a:ext cx="1800" cy="2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85880" y="5438520"/>
              <a:ext cx="1800" cy="27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327400" y="4784760"/>
              <a:ext cx="4190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36720" y="4746600"/>
              <a:ext cx="115920" cy="75960"/>
            </a:xfrm>
            <a:custGeom>
              <a:avLst/>
              <a:gdLst/>
              <a:ahLst/>
              <a:rect l="l" t="t" r="r" b="b"/>
              <a:pathLst>
                <a:path w="147" h="95">
                  <a:moveTo>
                    <a:pt x="0" y="0"/>
                  </a:moveTo>
                  <a:lnTo>
                    <a:pt x="147" y="48"/>
                  </a:lnTo>
                  <a:lnTo>
                    <a:pt x="2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79600" y="5867280"/>
              <a:ext cx="3938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63720" y="5833800"/>
              <a:ext cx="115920" cy="76320"/>
            </a:xfrm>
            <a:custGeom>
              <a:avLst/>
              <a:gdLst/>
              <a:ahLst/>
              <a:rect l="l" t="t" r="r" b="b"/>
              <a:pathLst>
                <a:path w="147" h="95">
                  <a:moveTo>
                    <a:pt x="0" y="0"/>
                  </a:moveTo>
                  <a:lnTo>
                    <a:pt x="147" y="50"/>
                  </a:lnTo>
                  <a:lnTo>
                    <a:pt x="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30720" y="4644720"/>
              <a:ext cx="339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mbol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73560" y="5722920"/>
              <a:ext cx="339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mbol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34840" y="6188040"/>
              <a:ext cx="171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mbol-level Agglome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06840" y="5324400"/>
              <a:ext cx="176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2080" y="5286240"/>
              <a:ext cx="117360" cy="76320"/>
            </a:xfrm>
            <a:custGeom>
              <a:avLst/>
              <a:gdLst/>
              <a:ahLst/>
              <a:rect l="l" t="t" r="r" b="b"/>
              <a:pathLst>
                <a:path w="147" h="95">
                  <a:moveTo>
                    <a:pt x="0" y="0"/>
                  </a:moveTo>
                  <a:lnTo>
                    <a:pt x="147" y="47"/>
                  </a:lnTo>
                  <a:lnTo>
                    <a:pt x="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98640" y="5153040"/>
              <a:ext cx="19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C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87120" y="5367240"/>
              <a:ext cx="25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218240" y="2286000"/>
            <a:ext cx="2748960" cy="1773360"/>
            <a:chOff x="1218240" y="2286000"/>
            <a:chExt cx="2748960" cy="1773360"/>
          </a:xfrm>
        </p:grpSpPr>
        <p:sp>
          <p:nvSpPr>
            <p:cNvPr id="268" name=""/>
            <p:cNvSpPr/>
            <p:nvPr/>
          </p:nvSpPr>
          <p:spPr>
            <a:xfrm>
              <a:off x="1717560" y="2286000"/>
              <a:ext cx="612360" cy="431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34560" y="23619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ra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5240" y="25034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01360" y="3368520"/>
              <a:ext cx="628560" cy="433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26640" y="3446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ra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77320" y="35859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69920" y="2286000"/>
              <a:ext cx="744120" cy="151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00600" y="269388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b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02760" y="283500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41720" y="29746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76120" y="3114360"/>
              <a:ext cx="50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arac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24280" y="325404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ypothe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2500200"/>
              <a:ext cx="191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1640" y="2463480"/>
              <a:ext cx="115560" cy="74880"/>
            </a:xfrm>
            <a:custGeom>
              <a:avLst/>
              <a:gdLst/>
              <a:ahLst/>
              <a:rect l="l" t="t" r="r" b="b"/>
              <a:pathLst>
                <a:path w="147" h="95">
                  <a:moveTo>
                    <a:pt x="0" y="0"/>
                  </a:moveTo>
                  <a:lnTo>
                    <a:pt x="147" y="48"/>
                  </a:lnTo>
                  <a:lnTo>
                    <a:pt x="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5400000">
              <a:off x="1160280" y="2440080"/>
              <a:ext cx="22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17320" y="3584520"/>
              <a:ext cx="190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98400" y="3546360"/>
              <a:ext cx="115560" cy="76320"/>
            </a:xfrm>
            <a:custGeom>
              <a:avLst/>
              <a:gdLst/>
              <a:ahLst/>
              <a:rect l="l" t="t" r="r" b="b"/>
              <a:pathLst>
                <a:path w="147" h="95">
                  <a:moveTo>
                    <a:pt x="0" y="0"/>
                  </a:moveTo>
                  <a:lnTo>
                    <a:pt x="147" y="48"/>
                  </a:lnTo>
                  <a:lnTo>
                    <a:pt x="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1159200" y="3522600"/>
              <a:ext cx="22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6320" y="2827080"/>
              <a:ext cx="1080" cy="28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6320" y="2882880"/>
              <a:ext cx="1080" cy="2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76320" y="3097080"/>
              <a:ext cx="1080" cy="2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76320" y="3152520"/>
              <a:ext cx="1080" cy="28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39560" y="2827080"/>
              <a:ext cx="1440" cy="28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39560" y="2882880"/>
              <a:ext cx="1440" cy="2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39560" y="3097080"/>
              <a:ext cx="1440" cy="2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39560" y="3152520"/>
              <a:ext cx="1440" cy="28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01720" y="2827080"/>
              <a:ext cx="1080" cy="28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01720" y="2882880"/>
              <a:ext cx="1080" cy="2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01720" y="3097080"/>
              <a:ext cx="1080" cy="2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01720" y="3152520"/>
              <a:ext cx="1080" cy="28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30280" y="2500200"/>
              <a:ext cx="433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54000" y="2463480"/>
              <a:ext cx="115560" cy="74880"/>
            </a:xfrm>
            <a:custGeom>
              <a:avLst/>
              <a:gdLst/>
              <a:ahLst/>
              <a:rect l="l" t="t" r="r" b="b"/>
              <a:pathLst>
                <a:path w="148" h="95">
                  <a:moveTo>
                    <a:pt x="0" y="0"/>
                  </a:moveTo>
                  <a:lnTo>
                    <a:pt x="148" y="48"/>
                  </a:lnTo>
                  <a:lnTo>
                    <a:pt x="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30280" y="3584520"/>
              <a:ext cx="433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54000" y="3546360"/>
              <a:ext cx="115560" cy="76320"/>
            </a:xfrm>
            <a:custGeom>
              <a:avLst/>
              <a:gdLst/>
              <a:ahLst/>
              <a:rect l="l" t="t" r="r" b="b"/>
              <a:pathLst>
                <a:path w="148" h="95">
                  <a:moveTo>
                    <a:pt x="0" y="0"/>
                  </a:moveTo>
                  <a:lnTo>
                    <a:pt x="148" y="48"/>
                  </a:lnTo>
                  <a:lnTo>
                    <a:pt x="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1920" y="2354040"/>
              <a:ext cx="317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06600" y="3450960"/>
              <a:ext cx="317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35920" y="3906720"/>
              <a:ext cx="171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eature-level Agglome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27000" y="3036600"/>
              <a:ext cx="176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92240" y="2998440"/>
              <a:ext cx="117000" cy="76320"/>
            </a:xfrm>
            <a:custGeom>
              <a:avLst/>
              <a:gdLst/>
              <a:ahLst/>
              <a:rect l="l" t="t" r="r" b="b"/>
              <a:pathLst>
                <a:path w="147" h="95">
                  <a:moveTo>
                    <a:pt x="0" y="0"/>
                  </a:moveTo>
                  <a:lnTo>
                    <a:pt x="147" y="47"/>
                  </a:lnTo>
                  <a:lnTo>
                    <a:pt x="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20600" y="2865240"/>
              <a:ext cx="19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C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07280" y="3079440"/>
              <a:ext cx="25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432880" y="1319040"/>
            <a:ext cx="24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ing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35040" y="143208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Collection and Eval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 English and Arabic video-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cast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corder recording with scene 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ground tru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 text reg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ViPER and/or BBN Video Annotation t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an appropriate set of metrics for end-to-end tas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 component and overall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te in VACE community-wide evaluation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514600" y="847800"/>
            <a:ext cx="3733920" cy="23335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98360" y="3733920"/>
            <a:ext cx="8882280" cy="27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00"/>
              </a:spcBef>
              <a:buClr>
                <a:srgbClr val="241aa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aa8"/>
                </a:solidFill>
                <a:latin typeface="Arial"/>
                <a:ea typeface="Times New Roman"/>
              </a:rPr>
              <a:t>Novel coupling of text detection and tracking using video stab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00"/>
              </a:spcBef>
              <a:buClr>
                <a:srgbClr val="241aa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aa8"/>
                </a:solidFill>
                <a:latin typeface="Arial"/>
                <a:ea typeface="Times New Roman"/>
              </a:rPr>
              <a:t>Training-based approach to recognition using hidden Markov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00"/>
              </a:spcBef>
              <a:buClr>
                <a:srgbClr val="241aa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aa8"/>
                </a:solidFill>
                <a:latin typeface="Arial"/>
                <a:ea typeface="Times New Roman"/>
              </a:rPr>
              <a:t>Multi-frame techniques for improving recognition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57240">
              <a:lnSpc>
                <a:spcPct val="100000"/>
              </a:lnSpc>
              <a:buClr>
                <a:srgbClr val="241aa8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aa8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241aa8"/>
                </a:solidFill>
                <a:latin typeface="Arial"/>
                <a:ea typeface="Times New Roman"/>
              </a:rPr>
              <a:t>Pixel-based temporal integration and enhanc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57240">
              <a:lnSpc>
                <a:spcPct val="100000"/>
              </a:lnSpc>
              <a:buClr>
                <a:srgbClr val="241aa8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41aa8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241aa8"/>
                </a:solidFill>
                <a:latin typeface="Arial"/>
                <a:ea typeface="Times New Roman"/>
              </a:rPr>
              <a:t>Script-independent multi-frame OCR agglomeration tech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57240">
              <a:lnSpc>
                <a:spcPct val="100000"/>
              </a:lnSpc>
              <a:buClr>
                <a:srgbClr val="241aa8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41aa8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241aa8"/>
                </a:solidFill>
                <a:latin typeface="Arial"/>
                <a:ea typeface="Times New Roman"/>
              </a:rPr>
              <a:t>Multi-frame technique for aligning and combining hypothesized character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00"/>
              </a:spcBef>
              <a:buClr>
                <a:srgbClr val="241aa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aa8"/>
                </a:solidFill>
                <a:latin typeface="Arial"/>
                <a:ea typeface="Times New Roman"/>
              </a:rPr>
              <a:t>Collect and annotate video data containing overlay and scene text (English and Ara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00"/>
              </a:spcBef>
              <a:buClr>
                <a:srgbClr val="241aa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aa8"/>
                </a:solidFill>
                <a:latin typeface="Arial"/>
                <a:ea typeface="Times New Roman"/>
              </a:rPr>
              <a:t>Integrate videotext detection, tracking, and recognition technologies into a single end-to-end 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05480" y="914400"/>
            <a:ext cx="340200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Cross Cutting / Enabling Technologies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spcBef>
                <a:spcPts val="1001"/>
              </a:spcBef>
              <a:buClr>
                <a:srgbClr val="241aa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aa8"/>
                </a:solidFill>
                <a:latin typeface="Arial"/>
                <a:ea typeface="Times New Roman"/>
              </a:rPr>
              <a:t>Perform research to develop a robust, script-independent methodology for OCR of overlay and scene text in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spcBef>
                <a:spcPts val="1001"/>
              </a:spcBef>
              <a:buClr>
                <a:srgbClr val="241aa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1aa8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241aa8"/>
                </a:solidFill>
                <a:latin typeface="Arial"/>
                <a:ea typeface="Times New Roman"/>
              </a:rPr>
              <a:t>Develop and demonstrate end-to-end, multi-lingual, video OCR 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0680" y="6481800"/>
            <a:ext cx="86868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77040" y="857160"/>
            <a:ext cx="0" cy="276696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3280" y="3624120"/>
            <a:ext cx="867096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270000" y="2292480"/>
            <a:ext cx="1685880" cy="1269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104920" y="9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2705040"/>
            <a:ext cx="358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MM-based Multi-lingual O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quential analysis of each text line using analysis window indexed by horizontal position in the l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7758000" y="77760"/>
            <a:ext cx="1386000" cy="3160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80880" y="22860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276120" y="961920"/>
            <a:ext cx="167652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 research to develop a robust, script-independent methodology for OCR of text in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l coupling of text detection and tracking using video stabi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-based approach to recognition using Hidden Markov Models (HM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-frame techniques for improving recognition accura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and demonstrate end-to-end, multi-lingual, video OCR prototy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nglish and Arabic video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700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ay and scene 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eo OCR – Proc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38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43000" y="914400"/>
          <a:ext cx="6553080" cy="56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553080" cy="56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Detection and Track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y text can be displayed over non-uniform backgrounds containing arbitrary image patte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ene text can be arbitrarily small, can be viewed from oblique angles, and can undergo complex motion and distor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evious work, text detection and text tracking have been treated as two distinct, sequential, causal, processing steps run in a single pass on the video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architecture: the text detection process uses multi-frame motion information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rived by tracking moving 3-D surfa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o yield improved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xt detection and tracking process will be generalized for English and Arabic text, and will be extendable to additional languages in the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Detection and Tracking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53320" y="9684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1981080"/>
            <a:ext cx="2121120" cy="106740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-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De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Line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83200" y="1990800"/>
            <a:ext cx="1865520" cy="131076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ion Dete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racking of Rigid 3-D Su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4684680"/>
            <a:ext cx="2590920" cy="5806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nforcing consistenc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460760" y="130176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65800" y="528156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23520" y="5780160"/>
            <a:ext cx="22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rac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57720" y="3749760"/>
            <a:ext cx="11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di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28160" y="377496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08760" y="3365640"/>
            <a:ext cx="1800" cy="460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098880"/>
            <a:ext cx="0" cy="71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25800" y="160020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17880" y="1600200"/>
            <a:ext cx="0" cy="36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05520" y="1616040"/>
            <a:ext cx="0" cy="36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4952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4952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Detection and Tracking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text detector processes each video frame and generates candidate text reg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second process independently detects and tracks moving regions of contiguous pixels in the video sequence that form rigid planes or surfaces in 3-D sp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tion information is derived by tracking moving 3-D surfaces rather than by tracking individual text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tion of individual text line is estimated more robus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text lines on a single surface can be tracked and rectified as a gro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text detection process will use the information from multiple frames to better estimate the presence, spatial extent, and orientation of the tex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 severe motions, the tracker will yield the motion information necessary to produce a motion-compensated image regions by de-blurring and de-interlacing, which can then be rerun through the single-frame text detection proces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king of Multiple Moving 3-D Su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: robust and efficient motion tracking in video imagery with multiple moving su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approach: apply matrix factorization methods to Lucas &amp; Kanade estimation of multiple parametric surface motions (originally developed for stabilizing multiple planes in aerial imager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iece-wise parametric surface motion models describe the image motion of a patch with a small number of parameters of a global transformation, rather than with the motion vectors of each pixe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ization imposes global 3-D motion constraints on image motion parameters of multiple image patches over multiple fr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cess will identify the dominant subspace associated with camera motion, independently moving surfaces, and areas inconsistent with surfac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will be able to compensate for the full 3-D motion of the camera, including rotation, translation, and zoo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of Video Stabi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53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42:41Z</dcterms:created>
  <dc:creator>Speech &amp; Language Department</dc:creator>
  <dc:description/>
  <dc:language>en-US</dc:language>
  <cp:lastModifiedBy>Greg Myers</cp:lastModifiedBy>
  <cp:lastPrinted>1999-08-30T14:05:03Z</cp:lastPrinted>
  <dcterms:modified xsi:type="dcterms:W3CDTF">2004-06-16T16:13:44Z</dcterms:modified>
  <cp:revision>261</cp:revision>
  <dc:subject/>
  <dc:title>Accomplishments since 3/98</dc:title>
</cp:coreProperties>
</file>