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58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0.jpeg" ContentType="image/jpeg"/>
  <Override PartName="/ppt/media/image34.png" ContentType="image/png"/>
  <Override PartName="/ppt/media/image9.png" ContentType="image/pn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11.png" ContentType="image/png"/>
  <Override PartName="/ppt/media/image31.jpeg" ContentType="image/jpeg"/>
  <Override PartName="/ppt/media/image30.jpeg" ContentType="image/jpeg"/>
  <Override PartName="/ppt/media/image19.jpeg" ContentType="image/jpeg"/>
  <Override PartName="/ppt/media/image42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50.jpeg" ContentType="image/jpeg"/>
  <Override PartName="/ppt/media/image37.png" ContentType="image/png"/>
  <Override PartName="/ppt/media/image7.png" ContentType="image/png"/>
  <Override PartName="/ppt/media/image13.png" ContentType="image/pn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3400" y="393084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12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484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340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12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484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50400"/>
            <a:ext cx="776268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3400" y="393084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912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4840" y="111888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9340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912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4840" y="3930840"/>
            <a:ext cx="278604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7160" y="50400"/>
            <a:ext cx="776268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93084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1118880"/>
            <a:ext cx="422280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3400" y="3930840"/>
            <a:ext cx="8653320" cy="25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76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876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820800"/>
            <a:ext cx="7988400" cy="759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887" y="0"/>
                </a:lnTo>
                <a:lnTo>
                  <a:pt x="887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cc00"/>
          </a:solidFill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88000"/>
            <a:ext cx="914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rebuchet MS"/>
              </a:rPr>
              <a:t>Institute for Robotics and Intelligen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23120" y="361800"/>
            <a:ext cx="890640" cy="544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158320" y="0"/>
            <a:ext cx="1006200" cy="353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610320"/>
            <a:ext cx="91440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47520" y="6581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62320"/>
            <a:ext cx="7315200" cy="1411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0000"/>
          </a:solidFill>
          <a:ln w="15840">
            <a:solidFill>
              <a:srgbClr val="ffc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53360" y="223920"/>
            <a:ext cx="1547640" cy="54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mmm.idiap.ch:8080/ramgen/Scripted-Meeting-TRN-10/Cam1/rm9/Cam1_T000011.320_T000423.800.r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Verdana"/>
              </a:rPr>
              <a:t>MOVER: Model-based Object and Video Event Recognition</a:t>
            </a:r>
            <a:endParaRPr b="0" lang="en-US" sz="30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06000" y="3067200"/>
            <a:ext cx="730116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DA-VACE Semi-Annual Worksh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24, 2004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m Nevatia, Isaac Cohen, Gerard Medioni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itute for Robotics and Intelligent Sys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ity of Southern Califor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Angeles, 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UAV: Tracking with Occlus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463760" y="5259240"/>
            <a:ext cx="63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are tracked using appearanc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on models estimated by the JPD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41320" y="1082520"/>
            <a:ext cx="54486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6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racking from Multiple Sensor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3760" y="920520"/>
            <a:ext cx="8618400" cy="57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ration of multiple views for monitoring large enviro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spatial and temporal overl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nd plane aligned by a homography: corresponding points may be given manually or from tracking of an object across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sion of EO and IR mod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detection and tracking performance in difficult imag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Spatio-temporal JPDAF formalism to integrate multiple views and fuse EO/IR mod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160" y="50400"/>
            <a:ext cx="79995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Gulim"/>
              </a:rPr>
              <a:t>Tracking across Multiple Camera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7160" y="1514520"/>
            <a:ext cx="8653320" cy="4325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79880" y="588492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ng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7800" y="5892840"/>
            <a:ext cx="28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ionary View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62760" y="587700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ionary View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73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Gulim"/>
              </a:rPr>
              <a:t>Airborne Surveillance: Data Fus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000" y="9907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38080" y="32115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EO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7480" y="1835280"/>
            <a:ext cx="5110200" cy="367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489560" y="5508720"/>
            <a:ext cx="40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racking using sensor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00" y="6084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IR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30040" y="38354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36760" y="2577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53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053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53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tion Segmentation: General Cas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0280" y="996840"/>
            <a:ext cx="8653680" cy="53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 case, background motion can not be modeled by a simple trans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mentation into mo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of segmentation,  estimated dense velocity field and 3D structure inference are comb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D data representation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,y,v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v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nsor Vo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4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ncode local properties as tens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pagate local information to neighbors through vot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tract salient smooth surfaces  - motion lay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sults – 3D Reconstruc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1760" y="1293840"/>
            <a:ext cx="2628720" cy="173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84640" y="1292400"/>
            <a:ext cx="2631960" cy="173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75440" y="1300320"/>
            <a:ext cx="2631960" cy="1736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66840" y="3868560"/>
            <a:ext cx="2631960" cy="173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292560" y="3854520"/>
            <a:ext cx="2631960" cy="1736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6195960" y="3855960"/>
            <a:ext cx="2631960" cy="173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03200" y="30402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fram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65560" y="301608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didate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62840" y="3016080"/>
            <a:ext cx="26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se segmented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5680" y="55926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velo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8160" y="5568840"/>
            <a:ext cx="26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ependent motion 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10360" y="55688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D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ultiple Frame Motion Analysi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 effects of votes between different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segmentation and velocity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multiple frames efficient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e segment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ior 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nsor voting – cast votes only within each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er detection by enforcing spatio-temporal smooth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50400"/>
            <a:ext cx="8080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Verdana"/>
              </a:rPr>
              <a:t>Multi frames Motion Layers Segmentation</a:t>
            </a:r>
            <a:endParaRPr b="0" lang="en-US" sz="28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12760" y="3000240"/>
            <a:ext cx="262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 fram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input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4360" y="963720"/>
            <a:ext cx="2222640" cy="1990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48080" y="3887640"/>
            <a:ext cx="2220840" cy="1992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352680" y="5913360"/>
            <a:ext cx="24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tracted motion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8480" y="5913360"/>
            <a:ext cx="22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ference frame with motion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0560" y="5913360"/>
            <a:ext cx="19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gmented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0600" y="3887640"/>
            <a:ext cx="2220840" cy="1992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47840" y="3105000"/>
            <a:ext cx="28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Without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sity c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44840" y="961920"/>
            <a:ext cx="2220480" cy="1993680"/>
            <a:chOff x="3444840" y="961920"/>
            <a:chExt cx="2220480" cy="199368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3444840" y="961920"/>
              <a:ext cx="222048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881520" y="1060560"/>
              <a:ext cx="423360" cy="4946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43680" y="310500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ing intensity c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48240" y="960480"/>
            <a:ext cx="2220840" cy="1993320"/>
            <a:chOff x="6348240" y="960480"/>
            <a:chExt cx="2220840" cy="1993320"/>
          </a:xfrm>
        </p:grpSpPr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6348240" y="960480"/>
              <a:ext cx="2220840" cy="19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05960" y="1112400"/>
              <a:ext cx="338040" cy="7952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6362640" y="3906720"/>
            <a:ext cx="22287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bject Detec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1120" y="890280"/>
            <a:ext cx="900288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on blobs (layers) do not have 1-1 correspondence to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use generic shape models to find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mentation of motion blobs or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ction of stationar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human shape, an articulated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4600" y="3824280"/>
            <a:ext cx="8234280" cy="2765520"/>
            <a:chOff x="444600" y="3824280"/>
            <a:chExt cx="8234280" cy="276552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444600" y="3824280"/>
              <a:ext cx="4059000" cy="27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649760" y="3824280"/>
              <a:ext cx="4029120" cy="2752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3D Human Shape Model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80" y="915840"/>
            <a:ext cx="86565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iculated objec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ed by par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our in examp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fficiency, we consi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istinct views of limited numb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articulations- sufficient for mid-range re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s: height, width, inclination, position and orientation (quantiz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i = {li, xi, yi, hi, f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li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53080" y="952560"/>
            <a:ext cx="32004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320" y="969480"/>
            <a:ext cx="89600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tools for automated extraction of content from vide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on enabling, cross-cutting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all thre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re, fu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event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l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43160" y="2705040"/>
            <a:ext cx="5969880" cy="3869640"/>
            <a:chOff x="3143160" y="2705040"/>
            <a:chExt cx="5969880" cy="3869640"/>
          </a:xfrm>
        </p:grpSpPr>
        <p:sp>
          <p:nvSpPr>
            <p:cNvPr id="90" name=""/>
            <p:cNvSpPr/>
            <p:nvPr/>
          </p:nvSpPr>
          <p:spPr>
            <a:xfrm rot="19293600">
              <a:off x="3525480" y="3265200"/>
              <a:ext cx="200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deo Data Types 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5240" y="3034440"/>
              <a:ext cx="2603160" cy="1112760"/>
            </a:xfrm>
            <a:custGeom>
              <a:avLst/>
              <a:gdLst/>
              <a:ahLst/>
              <a:rect l="l" t="t" r="r" b="b"/>
              <a:pathLst>
                <a:path w="5865" h="2685">
                  <a:moveTo>
                    <a:pt x="0" y="540"/>
                  </a:moveTo>
                  <a:lnTo>
                    <a:pt x="630" y="0"/>
                  </a:lnTo>
                  <a:lnTo>
                    <a:pt x="5865" y="0"/>
                  </a:lnTo>
                  <a:lnTo>
                    <a:pt x="2715" y="2685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3877560" y="3250800"/>
              <a:ext cx="2644920" cy="1112760"/>
            </a:xfrm>
            <a:custGeom>
              <a:avLst/>
              <a:gdLst/>
              <a:ahLst/>
              <a:rect l="l" t="t" r="r" b="b"/>
              <a:pathLst>
                <a:path w="5865" h="2685">
                  <a:moveTo>
                    <a:pt x="0" y="540"/>
                  </a:moveTo>
                  <a:lnTo>
                    <a:pt x="630" y="0"/>
                  </a:lnTo>
                  <a:lnTo>
                    <a:pt x="5865" y="0"/>
                  </a:lnTo>
                  <a:lnTo>
                    <a:pt x="2715" y="2685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7520" y="3044880"/>
              <a:ext cx="1656720" cy="130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378200">
              <a:off x="3979440" y="3581640"/>
              <a:ext cx="191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ws Broadcast Vi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433400">
              <a:off x="4308120" y="3510720"/>
              <a:ext cx="23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Meetings / Conference Vi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410000">
              <a:off x="4864680" y="3718440"/>
              <a:ext cx="162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urveillance Vi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406400">
              <a:off x="5195520" y="3512160"/>
              <a:ext cx="23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UAV / Reconnaissance Vi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9380600">
              <a:off x="5672880" y="3498480"/>
              <a:ext cx="25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ndoor / Outdoor Scene Vide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269600" y="4071960"/>
              <a:ext cx="2323800" cy="8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649760" y="3765240"/>
              <a:ext cx="233532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218920" y="3044880"/>
              <a:ext cx="1655280" cy="130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72160" y="3037320"/>
              <a:ext cx="1658160" cy="130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44480" y="3044880"/>
              <a:ext cx="1656720" cy="130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994280" y="3497400"/>
              <a:ext cx="2333880" cy="16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243400" y="3280680"/>
              <a:ext cx="2333880" cy="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143160" y="4365720"/>
              <a:ext cx="3850920" cy="1805040"/>
            </a:xfrm>
            <a:custGeom>
              <a:avLst/>
              <a:gdLst>
                <a:gd name="textAreaLeft" fmla="*/ 721440 w 3850920"/>
                <a:gd name="textAreaRight" fmla="*/ 3129480 w 3850920"/>
                <a:gd name="textAreaTop" fmla="*/ 338040 h 1805040"/>
                <a:gd name="textAreaBottom" fmla="*/ 1467000 h 18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65" y="21600"/>
                  </a:lnTo>
                  <a:lnTo>
                    <a:pt x="4135" y="21600"/>
                  </a:ln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3200" y="5596920"/>
              <a:ext cx="3681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Core-Level Research Objectiv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e.g. Object Detection, Recognition &amp; Tracking; Motion Analysis; Image Enhancements; Camera Parameter Estimation &amp; Other Image Metadat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960" y="4994640"/>
              <a:ext cx="28724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Fusion-Level Research Objectiv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e.g. Analysis of Gestures, Gait, Lips, etc; Detailed Object Modeling; Multi-modal fusion; Mensuration; Kinematics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 Reconstructio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4379040"/>
              <a:ext cx="236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Event-Level Research Objectiv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e.g. Event Ontology; Event Hierarchy;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vent Representation Language;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vent Detection, Recognition, Understan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3720" y="5561280"/>
              <a:ext cx="335088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1040" y="4965120"/>
              <a:ext cx="285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120" y="6237360"/>
              <a:ext cx="306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CE    Research Objec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926160" y="4370040"/>
              <a:ext cx="416520" cy="1782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619520" y="4361400"/>
              <a:ext cx="160920" cy="17989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361400"/>
              <a:ext cx="128160" cy="17989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33000" y="4353840"/>
              <a:ext cx="384840" cy="18241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04160" y="2968560"/>
              <a:ext cx="3008880" cy="3229200"/>
              <a:chOff x="6104160" y="2968560"/>
              <a:chExt cx="3008880" cy="3229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262200" y="3037320"/>
                <a:ext cx="2402640" cy="3132360"/>
              </a:xfrm>
              <a:custGeom>
                <a:avLst/>
                <a:gdLst/>
                <a:ahLst/>
                <a:rect l="l" t="t" r="r" b="b"/>
                <a:pathLst>
                  <a:path w="2468" h="3135">
                    <a:moveTo>
                      <a:pt x="0" y="1325"/>
                    </a:moveTo>
                    <a:lnTo>
                      <a:pt x="1678" y="0"/>
                    </a:lnTo>
                    <a:lnTo>
                      <a:pt x="2468" y="1818"/>
                    </a:lnTo>
                    <a:lnTo>
                      <a:pt x="749" y="3135"/>
                    </a:lnTo>
                    <a:lnTo>
                      <a:pt x="0" y="1325"/>
                    </a:ln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934800">
                <a:off x="5684760" y="4897800"/>
                <a:ext cx="214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Video Retrieval (to inclu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Query By Example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981600">
                <a:off x="6266880" y="4593600"/>
                <a:ext cx="168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Intelligent  Brow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And Search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003800">
                <a:off x="6876360" y="4476600"/>
                <a:ext cx="1275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Summa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993000">
                <a:off x="7236360" y="4249440"/>
                <a:ext cx="113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Video Mi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61800">
                <a:off x="7377120" y="3832920"/>
                <a:ext cx="1264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Content-Bas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Rout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29400" y="4072680"/>
                <a:ext cx="737640" cy="179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95520" y="3754440"/>
                <a:ext cx="762840" cy="18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3120" y="3498840"/>
                <a:ext cx="75384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5280" y="3274920"/>
                <a:ext cx="74628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946200">
                <a:off x="7562160" y="3628800"/>
                <a:ext cx="1823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unctional Are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01960" y="3612600"/>
                <a:ext cx="1650600" cy="13244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743880" y="4236840"/>
                <a:ext cx="1650600" cy="1323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Bayesian Formul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" y="1053720"/>
            <a:ext cx="894744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Find the maximum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 posterio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MAP) estimate  of number of humans, their position and shape parameters from the motion blo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ihood measu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overlap of model and foreground/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ity/difference of the color histograms of the object and the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search in a high-dimensional and discontinuous space (number of dimensions is not fix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Markov Chain Monte Carlo (MCMC) approach to 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4400" y="117360"/>
            <a:ext cx="7396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CMC Approach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875880"/>
            <a:ext cx="882648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chastic hypothesize and evaluate fram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/Remove  objects (jump dyna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, change size/shape (diffusion dyna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chastic diffusion accelerates convergence and improves localization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ify one object randomly at a time, change is accepted according to a stochastic (Metropolis-Hastings)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image cues to generate hypotheses increases efficiency and robust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use a head detector with high detection rate but also high false alarm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2720"/>
            <a:ext cx="8115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rames from Two Sequences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360" y="613368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 iterations per frame (~2 seco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8720" y="957240"/>
            <a:ext cx="3720960" cy="251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45080" y="957240"/>
            <a:ext cx="3720960" cy="251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8720" y="3560760"/>
            <a:ext cx="3720960" cy="2513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645080" y="3560760"/>
            <a:ext cx="37209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33200"/>
            <a:ext cx="69343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erformance Evalu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562200" y="3390840"/>
          <a:ext cx="5099040" cy="2903760"/>
        </p:xfrm>
        <a:graphic>
          <a:graphicData uri="http://schemas.openxmlformats.org/drawingml/2006/table">
            <a:tbl>
              <a:tblPr/>
              <a:tblGrid>
                <a:gridCol w="2460600"/>
                <a:gridCol w="1389240"/>
                <a:gridCol w="1249200"/>
              </a:tblGrid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 hu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rect det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sed-det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 ala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 alarm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of the system are compared with ground-truth for every frame in two seq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quence complexity is measured by the number of human objects per blo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58720" y="3317760"/>
            <a:ext cx="191772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58720" y="4876920"/>
            <a:ext cx="2498760" cy="14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1976040" y="4896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8760" y="3381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xtension to Tracking: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920" y="874800"/>
            <a:ext cx="908208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s augmented with identities (I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jump dynamics for the search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correspo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correspo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 id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l prior: connectivity and smoothness of the traject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with a correspondence: smoothness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without a correspondence: pen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ementation considers only 2 frames at a time in a single, forward pa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s could be improved by multiple frame analysis and a backward p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sult on Commons Video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74520" y="849240"/>
            <a:ext cx="841860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ons reduced by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fram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me-base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ction rate 98.13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se alarm rate 0.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2.82% and 0.18% by single fram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jectory-base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broken trajectories out of 33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objects initialized a little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ing short trajectories will eliminate most false al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037120" y="1028880"/>
            <a:ext cx="398160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023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1160" y="50400"/>
            <a:ext cx="79916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Human 3D Pose from a Single Image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7760" y="1119240"/>
            <a:ext cx="498312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Infer a detailed 3D shape and pose of human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ssumption of prior motion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for track initi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stimate human  articulated 3D 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 details in human generative model used in MCM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 data observ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030640" y="1398600"/>
            <a:ext cx="1343160" cy="1938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378480" y="2193840"/>
            <a:ext cx="317520" cy="304920"/>
          </a:xfrm>
          <a:prstGeom prst="rightArrow">
            <a:avLst>
              <a:gd name="adj1" fmla="val 50000"/>
              <a:gd name="adj2" fmla="val 260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96000" y="1413000"/>
            <a:ext cx="134784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055000" y="1047600"/>
            <a:ext cx="965160" cy="243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7785000" y="4370400"/>
            <a:ext cx="1121040" cy="1760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26040" y="4340160"/>
            <a:ext cx="977760" cy="1822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345360" y="4330800"/>
            <a:ext cx="1276200" cy="1841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897440" y="6170760"/>
            <a:ext cx="4192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   Shape        Cl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roposal Maps from Observa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40" y="1703520"/>
            <a:ext cx="48942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abo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d and shou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ient descent to align model to input ed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joint probabilities of head-neck-shoulders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roposal_Map__0_000002" descr=""/>
          <p:cNvPicPr/>
          <p:nvPr/>
        </p:nvPicPr>
        <p:blipFill>
          <a:blip r:embed="rId1"/>
          <a:srcRect l="9268" t="6425" r="17990" b="2646"/>
          <a:stretch/>
        </p:blipFill>
        <p:spPr>
          <a:xfrm>
            <a:off x="6173640" y="1555920"/>
            <a:ext cx="1063800" cy="176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19088" t="0" r="19088" b="59787"/>
          <a:stretch/>
        </p:blipFill>
        <p:spPr>
          <a:xfrm>
            <a:off x="4397400" y="1811160"/>
            <a:ext cx="1366920" cy="1276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222960" y="3311640"/>
            <a:ext cx="104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2235240"/>
            <a:ext cx="380880" cy="393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9320" y="90792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CMC  proposal maps defined by body parts detecto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roposal_Map__1_000002" descr=""/>
          <p:cNvPicPr/>
          <p:nvPr/>
        </p:nvPicPr>
        <p:blipFill>
          <a:blip r:embed="rId3"/>
          <a:srcRect l="9268" t="6425" r="17990" b="2646"/>
          <a:stretch/>
        </p:blipFill>
        <p:spPr>
          <a:xfrm>
            <a:off x="5808600" y="4560840"/>
            <a:ext cx="1050840" cy="1739880"/>
          </a:xfrm>
          <a:prstGeom prst="rect">
            <a:avLst/>
          </a:prstGeom>
          <a:ln w="0">
            <a:noFill/>
          </a:ln>
        </p:spPr>
      </p:pic>
      <p:pic>
        <p:nvPicPr>
          <p:cNvPr id="258" name="Proposal_Map__3_000002" descr=""/>
          <p:cNvPicPr/>
          <p:nvPr/>
        </p:nvPicPr>
        <p:blipFill>
          <a:blip r:embed="rId4"/>
          <a:srcRect l="9268" t="6425" r="17990" b="2646"/>
          <a:stretch/>
        </p:blipFill>
        <p:spPr>
          <a:xfrm>
            <a:off x="6956280" y="4560840"/>
            <a:ext cx="1038240" cy="1719360"/>
          </a:xfrm>
          <a:prstGeom prst="rect">
            <a:avLst/>
          </a:prstGeom>
          <a:ln w="0">
            <a:noFill/>
          </a:ln>
        </p:spPr>
      </p:pic>
      <p:pic>
        <p:nvPicPr>
          <p:cNvPr id="259" name="Proposal_Map__4_000002" descr=""/>
          <p:cNvPicPr/>
          <p:nvPr/>
        </p:nvPicPr>
        <p:blipFill>
          <a:blip r:embed="rId5"/>
          <a:srcRect l="9268" t="6425" r="17990" b="2646"/>
          <a:stretch/>
        </p:blipFill>
        <p:spPr>
          <a:xfrm>
            <a:off x="8024760" y="4560840"/>
            <a:ext cx="1030320" cy="1704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854680" y="6296040"/>
            <a:ext cx="3289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k         Shou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rcRect l="19226" t="0" r="15392" b="58680"/>
          <a:stretch/>
        </p:blipFill>
        <p:spPr>
          <a:xfrm>
            <a:off x="4381560" y="3673440"/>
            <a:ext cx="1404720" cy="1282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5400000">
            <a:off x="6717960" y="3125880"/>
            <a:ext cx="482760" cy="2336760"/>
          </a:xfrm>
          <a:custGeom>
            <a:avLst/>
            <a:gdLst>
              <a:gd name="textAreaLeft" fmla="*/ 0 w 482760"/>
              <a:gd name="textAreaRight" fmla="*/ 483120 w 48276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Proposal Maps from Observa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966600"/>
            <a:ext cx="403056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-2412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714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ct sk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 blo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714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t ellip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1200" indent="-2412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714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t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is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roposal_Map__5_000002" descr=""/>
          <p:cNvPicPr/>
          <p:nvPr/>
        </p:nvPicPr>
        <p:blipFill>
          <a:blip r:embed="rId1"/>
          <a:srcRect l="9268" t="6425" r="17990" b="2646"/>
          <a:stretch/>
        </p:blipFill>
        <p:spPr>
          <a:xfrm>
            <a:off x="4902120" y="1330200"/>
            <a:ext cx="1019160" cy="1687680"/>
          </a:xfrm>
          <a:prstGeom prst="rect">
            <a:avLst/>
          </a:prstGeom>
          <a:ln w="0">
            <a:noFill/>
          </a:ln>
        </p:spPr>
      </p:pic>
      <p:pic>
        <p:nvPicPr>
          <p:cNvPr id="266" name="Proposal_Map__6_000002" descr=""/>
          <p:cNvPicPr/>
          <p:nvPr/>
        </p:nvPicPr>
        <p:blipFill>
          <a:blip r:embed="rId2"/>
          <a:srcRect l="9268" t="6425" r="17990" b="2646"/>
          <a:stretch/>
        </p:blipFill>
        <p:spPr>
          <a:xfrm>
            <a:off x="5948280" y="1330200"/>
            <a:ext cx="1019160" cy="1687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396040" y="3019320"/>
            <a:ext cx="34430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bows                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892600" y="952560"/>
            <a:ext cx="1703160" cy="2552760"/>
          </a:xfrm>
          <a:prstGeom prst="rect">
            <a:avLst/>
          </a:prstGeom>
          <a:ln w="0">
            <a:noFill/>
          </a:ln>
        </p:spPr>
      </p:pic>
      <p:pic>
        <p:nvPicPr>
          <p:cNvPr id="269" name="Proposal_Map__7_000002" descr=""/>
          <p:cNvPicPr/>
          <p:nvPr/>
        </p:nvPicPr>
        <p:blipFill>
          <a:blip r:embed="rId4"/>
          <a:srcRect l="9268" t="6425" r="17990" b="2646"/>
          <a:stretch/>
        </p:blipFill>
        <p:spPr>
          <a:xfrm>
            <a:off x="7027920" y="1330200"/>
            <a:ext cx="1019160" cy="1687680"/>
          </a:xfrm>
          <a:prstGeom prst="rect">
            <a:avLst/>
          </a:prstGeom>
          <a:ln w="0">
            <a:noFill/>
          </a:ln>
        </p:spPr>
      </p:pic>
      <p:pic>
        <p:nvPicPr>
          <p:cNvPr id="270" name="Proposal_Map__8_000002" descr=""/>
          <p:cNvPicPr/>
          <p:nvPr/>
        </p:nvPicPr>
        <p:blipFill>
          <a:blip r:embed="rId5"/>
          <a:srcRect l="9268" t="6425" r="17990" b="2646"/>
          <a:stretch/>
        </p:blipFill>
        <p:spPr>
          <a:xfrm>
            <a:off x="8082000" y="1330200"/>
            <a:ext cx="1019160" cy="1687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97560" y="1917720"/>
            <a:ext cx="291960" cy="393840"/>
          </a:xfrm>
          <a:prstGeom prst="rightArrow">
            <a:avLst>
              <a:gd name="adj1" fmla="val 43546"/>
              <a:gd name="adj2" fmla="val 38042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2913120" y="3716280"/>
            <a:ext cx="1700280" cy="2551320"/>
          </a:xfrm>
          <a:prstGeom prst="rect">
            <a:avLst/>
          </a:prstGeom>
          <a:ln w="0">
            <a:noFill/>
          </a:ln>
        </p:spPr>
      </p:pic>
      <p:pic>
        <p:nvPicPr>
          <p:cNvPr id="273" name="Proposal_Map__9_000004" descr=""/>
          <p:cNvPicPr/>
          <p:nvPr/>
        </p:nvPicPr>
        <p:blipFill>
          <a:blip r:embed="rId7"/>
          <a:srcRect l="9268" t="6425" r="17990" b="2646"/>
          <a:stretch/>
        </p:blipFill>
        <p:spPr>
          <a:xfrm>
            <a:off x="4903920" y="4073400"/>
            <a:ext cx="1019160" cy="1687680"/>
          </a:xfrm>
          <a:prstGeom prst="rect">
            <a:avLst/>
          </a:prstGeom>
          <a:ln w="0">
            <a:noFill/>
          </a:ln>
        </p:spPr>
      </p:pic>
      <p:pic>
        <p:nvPicPr>
          <p:cNvPr id="274" name="Proposal_Map__10_000004" descr=""/>
          <p:cNvPicPr/>
          <p:nvPr/>
        </p:nvPicPr>
        <p:blipFill>
          <a:blip r:embed="rId8"/>
          <a:srcRect l="9268" t="6425" r="17990" b="2646"/>
          <a:stretch/>
        </p:blipFill>
        <p:spPr>
          <a:xfrm>
            <a:off x="5945040" y="4073400"/>
            <a:ext cx="1019160" cy="1687680"/>
          </a:xfrm>
          <a:prstGeom prst="rect">
            <a:avLst/>
          </a:prstGeom>
          <a:ln w="0">
            <a:noFill/>
          </a:ln>
        </p:spPr>
      </p:pic>
      <p:pic>
        <p:nvPicPr>
          <p:cNvPr id="275" name="Proposal_Map__11_000004" descr=""/>
          <p:cNvPicPr/>
          <p:nvPr/>
        </p:nvPicPr>
        <p:blipFill>
          <a:blip r:embed="rId9"/>
          <a:srcRect l="9268" t="6425" r="17990" b="2646"/>
          <a:stretch/>
        </p:blipFill>
        <p:spPr>
          <a:xfrm>
            <a:off x="7023240" y="4073400"/>
            <a:ext cx="1019160" cy="1687680"/>
          </a:xfrm>
          <a:prstGeom prst="rect">
            <a:avLst/>
          </a:prstGeom>
          <a:ln w="0">
            <a:noFill/>
          </a:ln>
        </p:spPr>
      </p:pic>
      <p:pic>
        <p:nvPicPr>
          <p:cNvPr id="276" name="Proposal_Map__12_000004" descr=""/>
          <p:cNvPicPr/>
          <p:nvPr/>
        </p:nvPicPr>
        <p:blipFill>
          <a:blip r:embed="rId10"/>
          <a:srcRect l="9268" t="6425" r="17990" b="2646"/>
          <a:stretch/>
        </p:blipFill>
        <p:spPr>
          <a:xfrm>
            <a:off x="8061480" y="4073400"/>
            <a:ext cx="1019160" cy="1687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00800" y="5746680"/>
            <a:ext cx="3109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ees                 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10160" y="4762440"/>
            <a:ext cx="291960" cy="393840"/>
          </a:xfrm>
          <a:prstGeom prst="rightArrow">
            <a:avLst>
              <a:gd name="adj1" fmla="val 43546"/>
              <a:gd name="adj2" fmla="val 38042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080" y="152280"/>
            <a:ext cx="76485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Results: 3D Pose Estimation 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214200" y="1401840"/>
            <a:ext cx="183528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d Pose (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030400" y="1009800"/>
            <a:ext cx="7113240" cy="5434920"/>
            <a:chOff x="2030400" y="1009800"/>
            <a:chExt cx="7113240" cy="54349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2030400" y="1009800"/>
              <a:ext cx="7113240" cy="543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3" name=""/>
            <p:cNvGrpSpPr/>
            <p:nvPr/>
          </p:nvGrpSpPr>
          <p:grpSpPr>
            <a:xfrm>
              <a:off x="2242080" y="3318120"/>
              <a:ext cx="5798880" cy="2775960"/>
              <a:chOff x="2242080" y="3318120"/>
              <a:chExt cx="5798880" cy="2775960"/>
            </a:xfrm>
          </p:grpSpPr>
          <p:sp>
            <p:nvSpPr>
              <p:cNvPr id="284" name=""/>
              <p:cNvSpPr/>
              <p:nvPr/>
            </p:nvSpPr>
            <p:spPr>
              <a:xfrm>
                <a:off x="2659320" y="4052520"/>
                <a:ext cx="29340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42080" y="5803920"/>
                <a:ext cx="29340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9920" y="3318120"/>
                <a:ext cx="29340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03320" y="4213800"/>
                <a:ext cx="293040" cy="289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46960" y="4304520"/>
                <a:ext cx="29340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47560" y="5253840"/>
                <a:ext cx="293400" cy="316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77040" y="4747320"/>
                <a:ext cx="28296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160" y="4918320"/>
                <a:ext cx="293400" cy="290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95720" y="5119560"/>
                <a:ext cx="293400" cy="4410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Data and Applicat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18880"/>
            <a:ext cx="91440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data types (including multi-mod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veillance, ground reconnaissance, UAV and meeting/conference video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possible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monitoring, browsing, query/retrieval, routing, and m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3160" y="250812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click image to pla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9120" y="2509920"/>
            <a:ext cx="2806920" cy="224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230640" y="2489040"/>
            <a:ext cx="2806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Limitations and Extens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8320" y="925200"/>
            <a:ext cx="83041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method dependent on face and skin detection performance: no headwear, glo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metric shape analysis will reduce dependence on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occlusion by other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al model match evaluation will be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 to tra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emporal smoothness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high order kinematics for limbs’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vent Level Objectiv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93400" y="1118880"/>
            <a:ext cx="86533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 event ont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d, hierarchical repres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 event recognition langu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ural but formal, useful for communication as well as compu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for compiling to event grap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and efficient recognition of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ive methods that can work from expected results of lower level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vent Representation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3720" y="1020600"/>
            <a:ext cx="8653320" cy="56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hould be exten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to use by huma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 and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: Organization of physical events, in terms of actions, actors, objects, place, tim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: Role of actions and events, inferred from structure and 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s of Event Ontolog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, states, events, process,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vent Hierarch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6320" y="1007640"/>
            <a:ext cx="8653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itive ev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rred from properties of objects and short term trajectories, e.g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oing towards d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dependent (walk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g moti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site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sition of primitive or composite ev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sition operators: sequencing, iteration, alternation, conditiona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spatial and log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/multiple th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on results in an event grap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440" y="50400"/>
            <a:ext cx="76737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VERL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4080" y="1008000"/>
            <a:ext cx="898992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Event Representation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as part of ARDA 2003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llenge proj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a series of worksh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L is designed to capture formal semantics of event definitions while hiding some complexities of first order logic (FO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L presented and discussed at a VACE PI meeting in March 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4 Challenge project is exploring translation of VERL into FOL and OW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ML is a mark-up language related to VER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ing relation of VEML to OWL and MPEG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Event Recognition Method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6000" y="995040"/>
            <a:ext cx="865332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itive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object motion and shape proper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properties may be combined by Bayes network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thread events are well modeled by stochastic finite state autom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need to be developed for complex compositions such as iteration and conditio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thread events recognized from single thread analys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emporal and spatial relations between sub-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rdinated actions between multiple actors may need differen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SimSun"/>
              </a:rPr>
              <a:t>Learning-based Primitive Labeling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3720" y="1118880"/>
            <a:ext cx="87930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Label individual activities (e.g. walking, browsing, etc.) and group activities (e.g. fighting, meeting, etc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ing is treated as a classification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ifier training complies with Neyman-Pearson criterion (fixes detection rate and minimizes false alarm ra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pped to a 0-1 Knapsack packing problem, solved efficiently by dynamic programm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l learned classifier uses a small number of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  <a:ea typeface="SimSun"/>
              </a:rPr>
              <a:t>Annotated Resul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03040" y="1062000"/>
            <a:ext cx="41580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4497480" y="1093680"/>
            <a:ext cx="44402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Evaluation (PETS04 data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14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6 scenarios: walking, browsing, resting, leaving a bag, group meeting,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42 activity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Missed detections: ~5% (as per classifier train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False alarms: ~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ther Project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893880"/>
            <a:ext cx="871848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site event 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sion of audio/video data in meeting and news vide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-modal entity and event co-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verages on-going speech analysis research at U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yond event 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rence of functionality, intention and caus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recognition, abductive reas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ust and efficient integration of different modules and their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7160" y="228240"/>
            <a:ext cx="77626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ummary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1476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ort to make progress at various levels of video analysis and content extraction 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-cutting, enabling technologies for multiple data sources and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-based approach, multi-disciplinary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progress on object detection, tracking, motion segmentation and event representation/recognition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del Based Approach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720" y="941400"/>
            <a:ext cx="8839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 models: graphical models described in an event representation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learned but likely to be pre-defin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ic shape and motion models of common objects (humans, vehicles, instruments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defined but parameters may be adapted for specific inst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ed from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era and scene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known or acquired from imag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Future Pla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9680" y="944640"/>
            <a:ext cx="89280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development of object and event recognition methods for more complex situ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orous evaluation of developed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for adequate, representativ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of mo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performance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sion of audio and video modes to solve problems of object and event co-referen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tools for functional, intentional and causal reasoning about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ulti-disciplinary Team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3960" y="1118880"/>
            <a:ext cx="84931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Ram Nevat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Isaac Cohen, Gérard Medion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o-P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Jerry Hobb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senior investig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hri Narayan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senior investig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lex Franço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senior investig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Specific Research Topic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720" y="966960"/>
            <a:ext cx="883908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ction and tracking of moving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based detection, tracking and recognition of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 representation and anno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 recognition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Verdana"/>
              </a:rPr>
              <a:t>Multi-modal (audio and video) data f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Verdana"/>
              </a:rPr>
              <a:t>Reasoning beyond event 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Verdana"/>
              </a:rPr>
              <a:t>Software archite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Talk will focus on the first four topics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(represents &gt;6 ECCV/CVPR papers)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Objects in Video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5560" y="928440"/>
            <a:ext cx="89391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ction, tracking and recognition of objects are important components of video content description and needed for event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e objects, carried objects, stationary or contextual obje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ulty depends 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lexity of the scene and its geometr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tion of the objects and camera (or lack thereof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99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aging conditions and knowledge of camera mod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ction, tracking and recognition inter-rel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Motion Segmentation: Special case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7440" y="890640"/>
            <a:ext cx="865368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onary cam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background pixels (mixture of Gaussi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on indicated by significant departure from the 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n/tilt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 motion compensated for by translation in spherical coordin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era motion: distan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ine transformation model for background motion esti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ive for UAV vid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50400"/>
            <a:ext cx="77626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Tracking Moving Regions</a:t>
            </a:r>
            <a:endParaRPr b="0" lang="en-US" sz="3200" spc="-1" strike="noStrike">
              <a:solidFill>
                <a:srgbClr val="99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360" y="844200"/>
            <a:ext cx="90806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 model: encodes color and edge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on model: encodes object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the joint probability of objects appearance and motion: Spatio-temporal Joint Probability Data Association Filter (JPDA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 evidence from a set of possible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r object trajectories by maximizing the joint probability within a fixed buf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6600" y="4970520"/>
            <a:ext cx="4466880" cy="1717560"/>
            <a:chOff x="66600" y="4970520"/>
            <a:chExt cx="4466880" cy="17175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66600" y="4970520"/>
              <a:ext cx="4466880" cy="13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294920" y="6319800"/>
              <a:ext cx="20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assical JPD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575240" y="4970520"/>
            <a:ext cx="4490640" cy="1715760"/>
            <a:chOff x="4575240" y="4970520"/>
            <a:chExt cx="4490640" cy="17157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5240" y="4970520"/>
              <a:ext cx="4490640" cy="13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40240" y="6318000"/>
              <a:ext cx="29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patio-temporal JPD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71880" y="5016600"/>
            <a:ext cx="825480" cy="850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3160" y="5029200"/>
            <a:ext cx="825480" cy="8510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18320" y="4991040"/>
            <a:ext cx="825480" cy="8510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42200" y="4978440"/>
            <a:ext cx="825480" cy="8510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8:41:58Z</dcterms:created>
  <dc:creator/>
  <dc:description/>
  <dc:language>en-US</dc:language>
  <cp:lastModifiedBy>Isaac COHEN</cp:lastModifiedBy>
  <dcterms:modified xsi:type="dcterms:W3CDTF">2004-06-17T17:11:06Z</dcterms:modified>
  <cp:revision>912</cp:revision>
  <dc:subject>VACE2-Semi-Annual Workshop</dc:subject>
  <dc:title>MOVER: Model-based Object and Video Event Recognition</dc:title>
</cp:coreProperties>
</file>